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38.jpeg" ContentType="image/jpeg"/>
  <Override PartName="/ppt/media/image27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1.wmf" ContentType="image/x-wmf"/>
  <Override PartName="/ppt/media/image26.png" ContentType="image/png"/>
  <Override PartName="/ppt/media/image17.jpeg" ContentType="image/jpeg"/>
  <Override PartName="/ppt/media/image7.wmf" ContentType="image/x-wmf"/>
  <Override PartName="/ppt/media/image19.png" ContentType="image/png"/>
  <Override PartName="/ppt/media/image20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14.png" ContentType="image/png"/>
  <Override PartName="/ppt/media/image9.wmf" ContentType="image/x-wmf"/>
  <Override PartName="/ppt/media/image31.png" ContentType="image/png"/>
  <Override PartName="/ppt/media/image33.png" ContentType="image/png"/>
  <Override PartName="/ppt/media/image35.png" ContentType="image/png"/>
  <Override PartName="/ppt/media/image36.jpeg" ContentType="image/jpeg"/>
  <Override PartName="/ppt/media/image6.wmf" ContentType="image/x-wmf"/>
  <Override PartName="/ppt/media/image5.wmf" ContentType="image/x-wmf"/>
  <Override PartName="/ppt/media/image8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5.wmf" ContentType="image/x-wmf"/>
  <Override PartName="/ppt/media/image37.jpeg" ContentType="image/jpeg"/>
  <Override PartName="/ppt/media/image30.png" ContentType="image/png"/>
  <Override PartName="/ppt/media/image3.jpeg" ContentType="image/jpeg"/>
  <Override PartName="/ppt/media/image16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94A8-EB5C-413E-8153-59B7446AC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 mesophyll cell has 30-40 chloroplasts, each about 2-4 microns by 4-7 micron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hloroplast has two membranes around a central aqueous space, the stro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roma are membranous sacs,  the thylak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ve an internal aqueous space, the thylakoid lumen or thylakoid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ylakoids may be stacked into columns called gr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ccidental that these 2 systems are similar, because both derived from the same primitive ances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H is an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an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bines with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is being handed off from one electron carrier to another -- proteins, cytochrome proteins &amp; quinone 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if it runs in revers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laces where light come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photosynthesis is endergonic -- the electron transport chain is driven by 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look at that in more detail on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s are absorbed by clusters of pigment molecules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enna molecule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ylakoid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y antenna molecule absorbs a photon, it is transmitted from molecule to molecule until it reaches a particular chlorophyll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lecule =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ction c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reaction center is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 electron accep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ich removes an excited electron from the reaction center chlorophyll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starts the light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compete with each other, work synergistically using different wavelengths.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08__x0008__x0008__x0008__x0008__x0008__x0008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laces where light come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photosynthesis is endergonic -- the electron transport chain is driven by 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look at that in more detail on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 II absorbs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ited electron passes from chlorophyll to the primary electr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replace electron in chlorophy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zyme extracts electrons from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&amp; supplies them to the chlorophy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action splits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into 2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amp; O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ich combines with another O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form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d to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absorbs light energy (photon)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oves an electron to a higher energy s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is handed off down chain from electron acceptor to electr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ocess has collected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ons from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&amp; also pumped by Plastoquinone within thylakoid sa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back through ATP synthase to generate AT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2nd photon -- shot of light energy to excite electron back up to high energy sta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ETC drives reduction of NADP to NAD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comes in at 2 poi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TP &amp; NA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laces where light come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photosynthesis is endergonic -- the electron transport chain is driven by 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look at that in more detail on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hotosystem is not enoug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o lift electron in 2 stages to a higher energy level. Does work as it f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produce ATP -- but producing ATP is not enoug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need to produce organic molecules for other uses &amp; also need to produce a stable storage molecule for a rainy day (sugars). This is done in Calvin Cyc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n effect, photosynthesis is respiration run backwards powered by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ze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amp; produce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 of electrons downhill to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g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amp; produc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 electrons uphill by splitting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rg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CFF6-AAA6-42CF-AC8B-9D14F45A6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22D2-3FED-4ACE-A680-FA2DBE25A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65C9-C09D-446E-A12F-7AD5D2F92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F00B-BDD5-4371-A04B-074A3E778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4913A-3AC9-4F45-B7DD-9410CA575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B0F5-15EA-44FD-916B-3751E87C9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2CA7-AE14-4D1E-A47C-DDDE4C677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C855-AC60-429E-9EB7-756A8C5B8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F8FF-ED8C-4940-96BC-F4AF1817E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C243-D544-429E-964F-0F410B123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0288-D2E0-4C44-9F44-B11A9B3C2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8AB7-179C-44D6-BF8E-A87CBEA8C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0E85-0808-4201-B929-199FA72476DF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1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5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68320" y="1219320"/>
            <a:ext cx="3365640" cy="56386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loroplas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3320" y="3504600"/>
            <a:ext cx="25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76309"/>
                </a:solidFill>
                <a:uFillTx/>
                <a:latin typeface="Arial"/>
              </a:rPr>
              <a:t>Chloroplast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40000" y="1218600"/>
            <a:ext cx="96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eaf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40" y="1370880"/>
            <a:ext cx="96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eaf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920" y="5409360"/>
            <a:ext cx="229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76309"/>
                </a:solidFill>
                <a:uFillTx/>
                <a:latin typeface="Arial"/>
              </a:rPr>
              <a:t>Chloroplast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1063800"/>
            <a:ext cx="284328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bsorb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sunlight &amp; C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05240" y="5791320"/>
            <a:ext cx="2954520" cy="100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make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nergy &amp; suga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91000" y="5051160"/>
            <a:ext cx="25095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76309"/>
                </a:solidFill>
                <a:uFillTx/>
                <a:latin typeface="Arial"/>
              </a:rPr>
              <a:t>Chloroplast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76309"/>
                </a:solidFill>
                <a:uFillTx/>
                <a:latin typeface="Arial"/>
              </a:rPr>
              <a:t>contai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76309"/>
                </a:solidFill>
                <a:uFillTx/>
                <a:latin typeface="Arial"/>
              </a:rPr>
              <a:t>Chlorophyll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73800" y="4964040"/>
            <a:ext cx="289080" cy="909720"/>
          </a:xfrm>
          <a:prstGeom prst="line">
            <a:avLst/>
          </a:prstGeom>
          <a:ln w="57240">
            <a:solidFill>
              <a:srgbClr val="66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8160" y="984240"/>
            <a:ext cx="2033640" cy="2033640"/>
          </a:xfrm>
          <a:prstGeom prst="ellipse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97040" y="1184400"/>
            <a:ext cx="2033640" cy="2033640"/>
          </a:xfrm>
          <a:prstGeom prst="ellipse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68760" y="2770200"/>
            <a:ext cx="2033280" cy="2033640"/>
          </a:xfrm>
          <a:prstGeom prst="ellipse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71640" y="3886200"/>
            <a:ext cx="2033640" cy="2033640"/>
          </a:xfrm>
          <a:prstGeom prst="ellipse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6680" y="5776920"/>
            <a:ext cx="2403360" cy="1081080"/>
          </a:xfrm>
          <a:prstGeom prst="ellipse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628040" y="1933560"/>
            <a:ext cx="1365840" cy="1774440"/>
            <a:chOff x="7628040" y="1933560"/>
            <a:chExt cx="1365840" cy="1774440"/>
          </a:xfrm>
        </p:grpSpPr>
        <p:grpSp>
          <p:nvGrpSpPr>
            <p:cNvPr id="245" name=""/>
            <p:cNvGrpSpPr/>
            <p:nvPr/>
          </p:nvGrpSpPr>
          <p:grpSpPr>
            <a:xfrm>
              <a:off x="7628040" y="1933560"/>
              <a:ext cx="1365840" cy="1774440"/>
              <a:chOff x="7628040" y="1933560"/>
              <a:chExt cx="1365840" cy="1774440"/>
            </a:xfrm>
          </p:grpSpPr>
          <p:sp>
            <p:nvSpPr>
              <p:cNvPr id="246" name=""/>
              <p:cNvSpPr/>
              <p:nvPr/>
            </p:nvSpPr>
            <p:spPr>
              <a:xfrm>
                <a:off x="7876080" y="1933560"/>
                <a:ext cx="1117800" cy="781200"/>
              </a:xfrm>
              <a:prstGeom prst="cloudCallout">
                <a:avLst>
                  <a:gd name="adj1" fmla="val -69444"/>
                  <a:gd name="adj2" fmla="val 216888"/>
                </a:avLst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876080" y="2962800"/>
                <a:ext cx="372600" cy="24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628040" y="3459960"/>
                <a:ext cx="372600" cy="24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8054640" y="2088360"/>
              <a:ext cx="7840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CO</a:t>
              </a:r>
              <a:r>
                <a:rPr b="1" lang="en-US" sz="26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091120" y="1967040"/>
            <a:ext cx="3646440" cy="3657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>
            <a:off x="6951240" y="2570040"/>
            <a:ext cx="1444680" cy="1417680"/>
          </a:xfrm>
          <a:prstGeom prst="line">
            <a:avLst/>
          </a:prstGeom>
          <a:ln w="57240">
            <a:solidFill>
              <a:srgbClr val="0f116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678640" y="5533920"/>
            <a:ext cx="3465360" cy="13240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8760" y="6326280"/>
            <a:ext cx="141300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10602" t="36365" r="2056" b="4082"/>
          <a:stretch/>
        </p:blipFill>
        <p:spPr>
          <a:xfrm>
            <a:off x="3873600" y="385920"/>
            <a:ext cx="5103720" cy="49593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55200" y="1371600"/>
            <a:ext cx="4907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hloroplast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ouble membran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trom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luid-filled interior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thylakoid sac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rana stack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ylakoid membrane contain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hlorophyll molecul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lectron transport chai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TP synthas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gradient built up within thylakoid sac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lant structur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064200" y="5817240"/>
            <a:ext cx="2666880" cy="779400"/>
            <a:chOff x="6064200" y="5817240"/>
            <a:chExt cx="2666880" cy="779400"/>
          </a:xfrm>
        </p:grpSpPr>
        <p:sp>
          <p:nvSpPr>
            <p:cNvPr id="258" name=""/>
            <p:cNvSpPr/>
            <p:nvPr/>
          </p:nvSpPr>
          <p:spPr>
            <a:xfrm>
              <a:off x="6064200" y="5833800"/>
              <a:ext cx="2666880" cy="761760"/>
            </a:xfrm>
            <a:prstGeom prst="ellipse">
              <a:avLst/>
            </a:prstGeom>
            <a:solidFill>
              <a:srgbClr val="80ff00"/>
            </a:solidFill>
            <a:ln w="38160">
              <a:solidFill>
                <a:srgbClr val="04a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25720" y="598356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32080" y="59090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84360" y="61376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36640" y="58327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65240" y="60613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93840" y="58172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70160" y="60613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75080" y="59090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51040" y="60613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46280" y="598500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73320" y="619776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 flipH="1">
            <a:off x="7213320" y="4792680"/>
            <a:ext cx="1941480" cy="20397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04640" y="1325520"/>
            <a:ext cx="1413000" cy="23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760" y="6326280"/>
            <a:ext cx="141300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rcRect l="0" t="0" r="0" b="3446"/>
          <a:stretch/>
        </p:blipFill>
        <p:spPr>
          <a:xfrm>
            <a:off x="4424400" y="179280"/>
            <a:ext cx="4719600" cy="309888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668600"/>
            <a:ext cx="728028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Light rea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ight-dependent rea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ergy production rea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nvert solar energy to chemical energy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TP &amp; NADP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Calvin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ight-independent rea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gar production rea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ses chemical energy (ATP &amp; NADPH) to reduce C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&amp; synthesize C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30880" y="3879720"/>
            <a:ext cx="2565360" cy="1017720"/>
          </a:xfrm>
          <a:prstGeom prst="wedgeEllipseCallout">
            <a:avLst>
              <a:gd name="adj1" fmla="val 35087"/>
              <a:gd name="adj2" fmla="val 8541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It’s the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ark Reactions</a:t>
            </a:r>
            <a:r>
              <a:rPr b="1" i="1" lang="en-US" sz="20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529240" y="4354560"/>
            <a:ext cx="2314440" cy="450720"/>
          </a:xfrm>
          <a:custGeom>
            <a:avLst/>
            <a:gdLst/>
            <a:ahLst/>
            <a:rect l="l" t="t" r="r" b="b"/>
            <a:pathLst>
              <a:path w="1525" h="384">
                <a:moveTo>
                  <a:pt x="0" y="245"/>
                </a:moveTo>
                <a:cubicBezTo>
                  <a:pt x="83" y="157"/>
                  <a:pt x="167" y="69"/>
                  <a:pt x="175" y="79"/>
                </a:cubicBezTo>
                <a:cubicBezTo>
                  <a:pt x="183" y="89"/>
                  <a:pt x="38" y="304"/>
                  <a:pt x="50" y="304"/>
                </a:cubicBezTo>
                <a:cubicBezTo>
                  <a:pt x="62" y="304"/>
                  <a:pt x="227" y="79"/>
                  <a:pt x="250" y="79"/>
                </a:cubicBezTo>
                <a:cubicBezTo>
                  <a:pt x="273" y="79"/>
                  <a:pt x="163" y="306"/>
                  <a:pt x="191" y="304"/>
                </a:cubicBezTo>
                <a:cubicBezTo>
                  <a:pt x="219" y="302"/>
                  <a:pt x="385" y="72"/>
                  <a:pt x="416" y="70"/>
                </a:cubicBezTo>
                <a:cubicBezTo>
                  <a:pt x="447" y="68"/>
                  <a:pt x="344" y="295"/>
                  <a:pt x="375" y="295"/>
                </a:cubicBezTo>
                <a:cubicBezTo>
                  <a:pt x="406" y="295"/>
                  <a:pt x="575" y="60"/>
                  <a:pt x="600" y="70"/>
                </a:cubicBezTo>
                <a:cubicBezTo>
                  <a:pt x="625" y="80"/>
                  <a:pt x="495" y="354"/>
                  <a:pt x="525" y="354"/>
                </a:cubicBezTo>
                <a:cubicBezTo>
                  <a:pt x="555" y="354"/>
                  <a:pt x="746" y="76"/>
                  <a:pt x="783" y="70"/>
                </a:cubicBezTo>
                <a:cubicBezTo>
                  <a:pt x="820" y="64"/>
                  <a:pt x="718" y="323"/>
                  <a:pt x="750" y="320"/>
                </a:cubicBezTo>
                <a:cubicBezTo>
                  <a:pt x="782" y="317"/>
                  <a:pt x="952" y="48"/>
                  <a:pt x="975" y="54"/>
                </a:cubicBezTo>
                <a:cubicBezTo>
                  <a:pt x="998" y="60"/>
                  <a:pt x="863" y="362"/>
                  <a:pt x="891" y="354"/>
                </a:cubicBezTo>
                <a:cubicBezTo>
                  <a:pt x="919" y="346"/>
                  <a:pt x="1113" y="0"/>
                  <a:pt x="1141" y="4"/>
                </a:cubicBezTo>
                <a:cubicBezTo>
                  <a:pt x="1169" y="8"/>
                  <a:pt x="1032" y="374"/>
                  <a:pt x="1058" y="379"/>
                </a:cubicBezTo>
                <a:cubicBezTo>
                  <a:pt x="1084" y="384"/>
                  <a:pt x="1271" y="44"/>
                  <a:pt x="1300" y="37"/>
                </a:cubicBezTo>
                <a:cubicBezTo>
                  <a:pt x="1329" y="30"/>
                  <a:pt x="1196" y="336"/>
                  <a:pt x="1233" y="337"/>
                </a:cubicBezTo>
                <a:cubicBezTo>
                  <a:pt x="1270" y="338"/>
                  <a:pt x="1397" y="191"/>
                  <a:pt x="1525" y="4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82680" y="1343160"/>
            <a:ext cx="6307200" cy="54496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ght Reacti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81920" y="63687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17120" y="2423880"/>
            <a:ext cx="59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55800" y="4198320"/>
            <a:ext cx="193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Energy Building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Reactio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49800" y="4664160"/>
            <a:ext cx="1042920" cy="990360"/>
          </a:xfrm>
          <a:custGeom>
            <a:avLst/>
            <a:gdLst/>
            <a:ahLst/>
            <a:rect l="l" t="t" r="r" b="b"/>
            <a:pathLst>
              <a:path w="657" h="624">
                <a:moveTo>
                  <a:pt x="144" y="0"/>
                </a:moveTo>
                <a:lnTo>
                  <a:pt x="0" y="624"/>
                </a:lnTo>
                <a:lnTo>
                  <a:pt x="624" y="576"/>
                </a:lnTo>
                <a:cubicBezTo>
                  <a:pt x="526" y="139"/>
                  <a:pt x="657" y="213"/>
                  <a:pt x="515" y="137"/>
                </a:cubicBezTo>
                <a:lnTo>
                  <a:pt x="240" y="0"/>
                </a:lnTo>
                <a:lnTo>
                  <a:pt x="96" y="48"/>
                </a:lnTo>
              </a:path>
            </a:pathLst>
          </a:custGeom>
          <a:solidFill>
            <a:srgbClr val="e7e7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75160" y="5450040"/>
            <a:ext cx="761760" cy="49824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  <a:ea typeface="ＭＳ Ｐゴシック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83360" y="2498760"/>
            <a:ext cx="3749400" cy="1984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duces 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duces NADPH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leases 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s a waste product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74560" y="2514600"/>
            <a:ext cx="1352520" cy="946080"/>
            <a:chOff x="574560" y="2514600"/>
            <a:chExt cx="1352520" cy="946080"/>
          </a:xfrm>
        </p:grpSpPr>
        <p:sp>
          <p:nvSpPr>
            <p:cNvPr id="287" name=""/>
            <p:cNvSpPr/>
            <p:nvPr/>
          </p:nvSpPr>
          <p:spPr>
            <a:xfrm>
              <a:off x="574560" y="2514600"/>
              <a:ext cx="1352520" cy="946080"/>
            </a:xfrm>
            <a:custGeom>
              <a:avLst/>
              <a:gdLst>
                <a:gd name="textAreaLeft" fmla="*/ 308520 w 1352520"/>
                <a:gd name="textAreaRight" fmla="*/ 1044000 w 1352520"/>
                <a:gd name="textAreaTop" fmla="*/ 216000 h 946080"/>
                <a:gd name="textAreaBottom" fmla="*/ 730080 h 94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1760" y="2764800"/>
              <a:ext cx="10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sunligh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503440" y="1346040"/>
            <a:ext cx="6564240" cy="901800"/>
            <a:chOff x="2503440" y="1346040"/>
            <a:chExt cx="6564240" cy="901800"/>
          </a:xfrm>
        </p:grpSpPr>
        <p:sp>
          <p:nvSpPr>
            <p:cNvPr id="290" name=""/>
            <p:cNvSpPr/>
            <p:nvPr/>
          </p:nvSpPr>
          <p:spPr>
            <a:xfrm>
              <a:off x="2503440" y="1346040"/>
              <a:ext cx="6564240" cy="90180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38360" y="1456560"/>
              <a:ext cx="7840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95120" y="14990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475480" y="1456560"/>
              <a:ext cx="5446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35360" y="1447560"/>
              <a:ext cx="126720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light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53320" y="1453320"/>
              <a:ext cx="489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76240" y="148392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45480" y="148392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01520" y="148392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96440" y="149904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NADPH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H="1" flipV="1" rot="2006400">
            <a:off x="1649880" y="6165000"/>
            <a:ext cx="1030320" cy="336600"/>
          </a:xfrm>
          <a:custGeom>
            <a:avLst/>
            <a:gdLst/>
            <a:ahLst/>
            <a:rect l="l" t="t" r="r" b="b"/>
            <a:pathLst>
              <a:path w="639" h="244">
                <a:moveTo>
                  <a:pt x="0" y="192"/>
                </a:moveTo>
                <a:lnTo>
                  <a:pt x="192" y="244"/>
                </a:lnTo>
                <a:lnTo>
                  <a:pt x="192" y="96"/>
                </a:lnTo>
                <a:lnTo>
                  <a:pt x="336" y="134"/>
                </a:lnTo>
                <a:lnTo>
                  <a:pt x="336" y="0"/>
                </a:lnTo>
                <a:cubicBezTo>
                  <a:pt x="596" y="69"/>
                  <a:pt x="493" y="54"/>
                  <a:pt x="639" y="7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76600" y="4836960"/>
            <a:ext cx="762120" cy="498600"/>
          </a:xfrm>
          <a:prstGeom prst="ellipse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DP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68280" y="1339920"/>
            <a:ext cx="6324480" cy="54766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lvin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00720" y="6230880"/>
            <a:ext cx="980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sugar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15640" y="246672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5560" y="3978000"/>
            <a:ext cx="12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Sugar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Reactio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4648320"/>
            <a:ext cx="1042920" cy="990360"/>
          </a:xfrm>
          <a:custGeom>
            <a:avLst/>
            <a:gdLst/>
            <a:ahLst/>
            <a:rect l="l" t="t" r="r" b="b"/>
            <a:pathLst>
              <a:path w="657" h="624">
                <a:moveTo>
                  <a:pt x="144" y="0"/>
                </a:moveTo>
                <a:lnTo>
                  <a:pt x="0" y="624"/>
                </a:lnTo>
                <a:lnTo>
                  <a:pt x="624" y="576"/>
                </a:lnTo>
                <a:cubicBezTo>
                  <a:pt x="526" y="139"/>
                  <a:pt x="657" y="213"/>
                  <a:pt x="515" y="137"/>
                </a:cubicBezTo>
                <a:lnTo>
                  <a:pt x="240" y="0"/>
                </a:lnTo>
                <a:lnTo>
                  <a:pt x="96" y="48"/>
                </a:lnTo>
              </a:path>
            </a:pathLst>
          </a:custGeom>
          <a:solidFill>
            <a:srgbClr val="e7e7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33920" y="4114800"/>
            <a:ext cx="228600" cy="228600"/>
          </a:xfrm>
          <a:prstGeom prst="ellipse">
            <a:avLst/>
          </a:prstGeom>
          <a:solidFill>
            <a:srgbClr val="e7e7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71760" y="3262320"/>
            <a:ext cx="685800" cy="45072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AD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6680" y="2438280"/>
            <a:ext cx="3124080" cy="3291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uilds sugar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uses ATP &amp; NADPH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cycles ADP &amp; NADP back to make more ATP &amp; NADPH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33600" y="5383080"/>
            <a:ext cx="762120" cy="4986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  <a:ea typeface="ＭＳ Ｐゴシック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33600" y="4797360"/>
            <a:ext cx="762120" cy="498600"/>
          </a:xfrm>
          <a:prstGeom prst="ellipse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DP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33600" y="3830760"/>
            <a:ext cx="762120" cy="498240"/>
          </a:xfrm>
          <a:prstGeom prst="ellipse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D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576440" y="1346040"/>
            <a:ext cx="7491240" cy="901800"/>
            <a:chOff x="1576440" y="1346040"/>
            <a:chExt cx="7491240" cy="901800"/>
          </a:xfrm>
        </p:grpSpPr>
        <p:sp>
          <p:nvSpPr>
            <p:cNvPr id="315" name=""/>
            <p:cNvSpPr/>
            <p:nvPr/>
          </p:nvSpPr>
          <p:spPr>
            <a:xfrm>
              <a:off x="1576440" y="1346040"/>
              <a:ext cx="7491240" cy="90180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03440" y="1521720"/>
              <a:ext cx="7416720" cy="550800"/>
              <a:chOff x="1603440" y="1521720"/>
              <a:chExt cx="7416720" cy="550800"/>
            </a:xfrm>
          </p:grpSpPr>
          <p:sp>
            <p:nvSpPr>
              <p:cNvPr id="317" name=""/>
              <p:cNvSpPr/>
              <p:nvPr/>
            </p:nvSpPr>
            <p:spPr>
              <a:xfrm>
                <a:off x="1603440" y="1524960"/>
                <a:ext cx="78408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C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388840" y="1542240"/>
                <a:ext cx="125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H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12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02480" y="1521720"/>
                <a:ext cx="489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669800" y="155232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28120" y="155232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603120" y="155232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978320" y="1567440"/>
                <a:ext cx="104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NADP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637720" y="156744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ATP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61320" y="155232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670560" y="1567440"/>
                <a:ext cx="126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NADPH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912720" y="1567440"/>
                <a:ext cx="8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ADP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utting it all togeth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80880" y="1343160"/>
            <a:ext cx="6324840" cy="54766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200400" y="4686480"/>
            <a:ext cx="1042920" cy="990360"/>
          </a:xfrm>
          <a:custGeom>
            <a:avLst/>
            <a:gdLst/>
            <a:ahLst/>
            <a:rect l="l" t="t" r="r" b="b"/>
            <a:pathLst>
              <a:path w="657" h="624">
                <a:moveTo>
                  <a:pt x="144" y="0"/>
                </a:moveTo>
                <a:lnTo>
                  <a:pt x="0" y="624"/>
                </a:lnTo>
                <a:lnTo>
                  <a:pt x="624" y="576"/>
                </a:lnTo>
                <a:cubicBezTo>
                  <a:pt x="526" y="139"/>
                  <a:pt x="657" y="213"/>
                  <a:pt x="515" y="137"/>
                </a:cubicBezTo>
                <a:lnTo>
                  <a:pt x="240" y="0"/>
                </a:lnTo>
                <a:lnTo>
                  <a:pt x="96" y="48"/>
                </a:lnTo>
              </a:path>
            </a:pathLst>
          </a:custGeom>
          <a:solidFill>
            <a:srgbClr val="e7e7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4062240"/>
            <a:ext cx="228600" cy="228600"/>
          </a:xfrm>
          <a:prstGeom prst="ellipse">
            <a:avLst/>
          </a:prstGeom>
          <a:solidFill>
            <a:srgbClr val="e7e7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108160" y="1371600"/>
            <a:ext cx="6934320" cy="914400"/>
            <a:chOff x="2108160" y="1371600"/>
            <a:chExt cx="6934320" cy="914400"/>
          </a:xfrm>
        </p:grpSpPr>
        <p:sp>
          <p:nvSpPr>
            <p:cNvPr id="333" name=""/>
            <p:cNvSpPr/>
            <p:nvPr/>
          </p:nvSpPr>
          <p:spPr>
            <a:xfrm>
              <a:off x="2108160" y="1371600"/>
              <a:ext cx="6934320" cy="91440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2290680" y="1465200"/>
              <a:ext cx="6558120" cy="727560"/>
              <a:chOff x="2290680" y="1465200"/>
              <a:chExt cx="6558120" cy="727560"/>
            </a:xfrm>
          </p:grpSpPr>
          <p:sp>
            <p:nvSpPr>
              <p:cNvPr id="335" name=""/>
              <p:cNvSpPr/>
              <p:nvPr/>
            </p:nvSpPr>
            <p:spPr>
              <a:xfrm>
                <a:off x="2290680" y="1556640"/>
                <a:ext cx="78408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C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02080" y="1556640"/>
                <a:ext cx="78408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H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600240" y="1573920"/>
                <a:ext cx="125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H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12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8304120" y="1556640"/>
                <a:ext cx="54468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07000" y="1465200"/>
                <a:ext cx="126720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light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energy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26400" y="1553400"/>
                <a:ext cx="489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101040" y="15840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901640" y="15840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3880" y="15840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4" name=""/>
          <p:cNvSpPr/>
          <p:nvPr/>
        </p:nvSpPr>
        <p:spPr>
          <a:xfrm>
            <a:off x="4345560" y="3978000"/>
            <a:ext cx="12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Sugar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Reactio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18320" y="4011120"/>
            <a:ext cx="12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Energy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Reactio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815080" y="2438280"/>
            <a:ext cx="3511440" cy="1921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8000"/>
                </a:solidFill>
                <a:uFillTx/>
                <a:latin typeface="Arial"/>
              </a:rPr>
              <a:t>Plants make both: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energy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2" marL="635040" indent="-17928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ATP &amp; NADPH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sugar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74560" y="2514600"/>
            <a:ext cx="1352520" cy="946080"/>
            <a:chOff x="574560" y="2514600"/>
            <a:chExt cx="1352520" cy="946080"/>
          </a:xfrm>
        </p:grpSpPr>
        <p:sp>
          <p:nvSpPr>
            <p:cNvPr id="348" name=""/>
            <p:cNvSpPr/>
            <p:nvPr/>
          </p:nvSpPr>
          <p:spPr>
            <a:xfrm>
              <a:off x="574560" y="2514600"/>
              <a:ext cx="1352520" cy="946080"/>
            </a:xfrm>
            <a:custGeom>
              <a:avLst/>
              <a:gdLst>
                <a:gd name="textAreaLeft" fmla="*/ 308520 w 1352520"/>
                <a:gd name="textAreaRight" fmla="*/ 1044000 w 1352520"/>
                <a:gd name="textAreaTop" fmla="*/ 216000 h 946080"/>
                <a:gd name="textAreaBottom" fmla="*/ 730080 h 94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1760" y="2764800"/>
              <a:ext cx="10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sunligh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2581920" y="63687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2423880"/>
            <a:ext cx="59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00720" y="6197400"/>
            <a:ext cx="980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sugar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715640" y="243324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13160" y="3319560"/>
            <a:ext cx="685800" cy="45072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AD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36840" y="5346720"/>
            <a:ext cx="762120" cy="4986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  <a:ea typeface="ＭＳ Ｐゴシック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36840" y="4784760"/>
            <a:ext cx="762120" cy="498600"/>
          </a:xfrm>
          <a:prstGeom prst="ellipse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DP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87600" y="3906720"/>
            <a:ext cx="762120" cy="498600"/>
          </a:xfrm>
          <a:prstGeom prst="ellipse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D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 rot="2006400">
            <a:off x="1649880" y="6165000"/>
            <a:ext cx="1030320" cy="336600"/>
          </a:xfrm>
          <a:custGeom>
            <a:avLst/>
            <a:gdLst/>
            <a:ahLst/>
            <a:rect l="l" t="t" r="r" b="b"/>
            <a:pathLst>
              <a:path w="639" h="244">
                <a:moveTo>
                  <a:pt x="0" y="192"/>
                </a:moveTo>
                <a:lnTo>
                  <a:pt x="192" y="244"/>
                </a:lnTo>
                <a:lnTo>
                  <a:pt x="192" y="96"/>
                </a:lnTo>
                <a:lnTo>
                  <a:pt x="336" y="134"/>
                </a:lnTo>
                <a:lnTo>
                  <a:pt x="336" y="0"/>
                </a:lnTo>
                <a:cubicBezTo>
                  <a:pt x="596" y="69"/>
                  <a:pt x="493" y="54"/>
                  <a:pt x="639" y="7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7391520" y="64008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rcRect l="0" t="0" r="902" b="3773"/>
          <a:stretch/>
        </p:blipFill>
        <p:spPr>
          <a:xfrm>
            <a:off x="3630600" y="2754360"/>
            <a:ext cx="5513400" cy="39625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ght reacti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5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Electron Transport Chai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ike in cellular respira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mbrane-bound proteins in organell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lectron acceptor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ADP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ton (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 across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ner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re’s the double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embrane?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TP synthase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zy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662880" y="379440"/>
            <a:ext cx="2330280" cy="89064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7611840" y="476640"/>
            <a:ext cx="1097280" cy="384840"/>
            <a:chOff x="7611840" y="476640"/>
            <a:chExt cx="1097280" cy="384840"/>
          </a:xfrm>
        </p:grpSpPr>
        <p:sp>
          <p:nvSpPr>
            <p:cNvPr id="365" name=""/>
            <p:cNvSpPr/>
            <p:nvPr/>
          </p:nvSpPr>
          <p:spPr>
            <a:xfrm>
              <a:off x="7637760" y="522720"/>
              <a:ext cx="1071360" cy="305280"/>
            </a:xfrm>
            <a:prstGeom prst="ellipse">
              <a:avLst/>
            </a:prstGeom>
            <a:solidFill>
              <a:srgbClr val="80ff00"/>
            </a:solidFill>
            <a:ln w="38160">
              <a:solidFill>
                <a:srgbClr val="04a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64120" y="54468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886520" y="51408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48440" y="60480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010360" y="48420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101080" y="57672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93240" y="47664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24560" y="57636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47320" y="51408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77200" y="57636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11840" y="54468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22800" y="63036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7572240" y="802080"/>
            <a:ext cx="1096920" cy="384840"/>
            <a:chOff x="7572240" y="802080"/>
            <a:chExt cx="1096920" cy="384840"/>
          </a:xfrm>
        </p:grpSpPr>
        <p:sp>
          <p:nvSpPr>
            <p:cNvPr id="378" name=""/>
            <p:cNvSpPr/>
            <p:nvPr/>
          </p:nvSpPr>
          <p:spPr>
            <a:xfrm>
              <a:off x="7598160" y="848160"/>
              <a:ext cx="1071000" cy="305280"/>
            </a:xfrm>
            <a:prstGeom prst="ellipse">
              <a:avLst/>
            </a:prstGeom>
            <a:solidFill>
              <a:srgbClr val="80ff00"/>
            </a:solidFill>
            <a:ln w="38160">
              <a:solidFill>
                <a:srgbClr val="04a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24520" y="87012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46920" y="83952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08840" y="93024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70400" y="80964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61120" y="90216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153280" y="80208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184960" y="90180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07360" y="83952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37240" y="90180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72240" y="87012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783200" y="95580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ATP that Jack buil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85720" y="2986200"/>
            <a:ext cx="7177320" cy="38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ves the electron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uns the pum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umps the prot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orms the gradi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rives the flow of protons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rough ATP syntha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ttaches </a:t>
            </a:r>
            <a:r>
              <a:rPr b="1" lang="en-US" sz="2400" spc="-1" strike="noStrike">
                <a:solidFill>
                  <a:srgbClr val="0c8f0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c8f0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c8f0f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orms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at evolution buil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7280" y="1751760"/>
            <a:ext cx="166212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sunlight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23280" y="1720440"/>
            <a:ext cx="4103640" cy="6138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reakdown of C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09680" y="2400480"/>
            <a:ext cx="390600" cy="64764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11400" y="2400480"/>
            <a:ext cx="401400" cy="66816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83600" y="137052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00280" y="1370520"/>
            <a:ext cx="224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photosynthesi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711760" y="2392200"/>
            <a:ext cx="3197160" cy="3967200"/>
            <a:chOff x="5711760" y="2392200"/>
            <a:chExt cx="3197160" cy="3967200"/>
          </a:xfrm>
        </p:grpSpPr>
        <p:pic>
          <p:nvPicPr>
            <p:cNvPr id="399" name="" descr=""/>
            <p:cNvPicPr/>
            <p:nvPr/>
          </p:nvPicPr>
          <p:blipFill>
            <a:blip r:embed="rId1"/>
            <a:srcRect l="22500" t="4504" r="22500" b="4504"/>
            <a:stretch/>
          </p:blipFill>
          <p:spPr>
            <a:xfrm>
              <a:off x="5711760" y="2392200"/>
              <a:ext cx="3197160" cy="39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7797600" y="60354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2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42000" y="5213520"/>
              <a:ext cx="828360" cy="27720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ADP + P</a:t>
              </a:r>
              <a:r>
                <a:rPr b="1" lang="en-US" sz="1600" spc="-1" strike="noStrike" baseline="-25000">
                  <a:solidFill>
                    <a:srgbClr val="0f116a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61080" y="289368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2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96320" y="295596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2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26920" y="255636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2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77760" y="295596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2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12560" y="287496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2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1840" y="260496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2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08920" y="26006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2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20480" y="24282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2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6138720" y="5603760"/>
            <a:ext cx="568440" cy="428760"/>
          </a:xfrm>
          <a:prstGeom prst="rect">
            <a:avLst/>
          </a:prstGeom>
          <a:solidFill>
            <a:srgbClr val="ee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924520" y="5556240"/>
            <a:ext cx="871560" cy="57168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0" r="0" b="5390"/>
          <a:stretch/>
        </p:blipFill>
        <p:spPr>
          <a:xfrm>
            <a:off x="228600" y="1371600"/>
            <a:ext cx="8839080" cy="54468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31840" y="380160"/>
            <a:ext cx="3378240" cy="52056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Respir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76040" y="941400"/>
            <a:ext cx="4953240" cy="155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Mitochondria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transfer chemical energy from food molecules into chemical energy of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622440" indent="-2239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use electron carrier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NAD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6840" y="5753520"/>
            <a:ext cx="1778040" cy="44064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nerate H</a:t>
            </a:r>
            <a:r>
              <a:rPr b="1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rcRect l="0" t="0" r="0" b="3310"/>
          <a:stretch/>
        </p:blipFill>
        <p:spPr>
          <a:xfrm>
            <a:off x="380880" y="1181160"/>
            <a:ext cx="8115480" cy="56005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156600" y="456480"/>
            <a:ext cx="406836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Photosynthe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51400" y="366840"/>
            <a:ext cx="4387680" cy="14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550"/>
              </a:spcBef>
              <a:buClr>
                <a:srgbClr val="40458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c8f0f"/>
                </a:solidFill>
                <a:uFillTx/>
                <a:latin typeface="Arial"/>
              </a:rPr>
              <a:t>Chloroplasts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transform light energy into chemical energy of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1" marL="573120" indent="-2239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use electron carrier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NADP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5867280" y="3352680"/>
            <a:ext cx="1600200" cy="1447920"/>
            <a:chOff x="5867280" y="3352680"/>
            <a:chExt cx="1600200" cy="1447920"/>
          </a:xfrm>
        </p:grpSpPr>
        <p:sp>
          <p:nvSpPr>
            <p:cNvPr id="102" name=""/>
            <p:cNvSpPr/>
            <p:nvPr/>
          </p:nvSpPr>
          <p:spPr>
            <a:xfrm>
              <a:off x="5943600" y="3352680"/>
              <a:ext cx="1523880" cy="106704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67280" y="42670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05520" y="4343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733920" y="3276720"/>
            <a:ext cx="1828800" cy="127944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291960 h 1279440"/>
              <a:gd name="textAreaBottom" fmla="*/ 98748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9807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Life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0000"/>
                </a:solidFill>
                <a:latin typeface="Arial"/>
              </a:rPr>
              <a:t>from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ight </a:t>
            </a:r>
            <a:r>
              <a:rPr b="1" lang="en-US" sz="3600" spc="-1" strike="noStrike">
                <a:solidFill>
                  <a:srgbClr val="660000"/>
                </a:solidFill>
                <a:latin typeface="Arial"/>
              </a:rPr>
              <a:t>and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Ai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8194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58760" y="6326280"/>
            <a:ext cx="87300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rcRect l="0" t="0" r="0" b="3257"/>
          <a:stretch/>
        </p:blipFill>
        <p:spPr>
          <a:xfrm>
            <a:off x="754200" y="1368360"/>
            <a:ext cx="8153280" cy="533736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igments of photosynthe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5080" y="4858920"/>
            <a:ext cx="593244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hlorophyll &amp; other pigment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mbedded in thylakoid membran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rranged in a “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hotosystem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tructure-function relationshi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159680" y="3443760"/>
            <a:ext cx="1944720" cy="131364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Why does this molecular structure make sense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Look at Ligh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rcRect l="0" t="0" r="0" b="3463"/>
          <a:stretch/>
        </p:blipFill>
        <p:spPr>
          <a:xfrm>
            <a:off x="990720" y="1617840"/>
            <a:ext cx="7467480" cy="51638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260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spectrum of color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284520" y="500976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87960" y="5009760"/>
            <a:ext cx="438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11600" y="500976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43280" y="5009760"/>
            <a:ext cx="438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45960" y="500976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524320" y="5009760"/>
            <a:ext cx="27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866600" y="500976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ght: absorption spectr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hotosynthesis gets energy by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absorbing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wavelengths of ligh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hlorophyll </a:t>
            </a: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bsorbs best in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red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&amp;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blu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wavelengths &amp; least in </a:t>
            </a: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gree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ther pigments with different structures absorb light of different wavelength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rcRect l="0" t="0" r="0" b="66003"/>
          <a:stretch/>
        </p:blipFill>
        <p:spPr>
          <a:xfrm>
            <a:off x="4419720" y="3911760"/>
            <a:ext cx="4724280" cy="28112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rcRect l="0" t="3332" r="0" b="4466"/>
          <a:stretch/>
        </p:blipFill>
        <p:spPr>
          <a:xfrm>
            <a:off x="1494000" y="4021200"/>
            <a:ext cx="2909880" cy="27097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 flipH="1">
            <a:off x="-720" y="3911760"/>
            <a:ext cx="1893960" cy="971280"/>
          </a:xfrm>
          <a:prstGeom prst="wedgeEllipseCallout">
            <a:avLst>
              <a:gd name="adj1" fmla="val -5995"/>
              <a:gd name="adj2" fmla="val 13708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y a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lants green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stems of photosynthe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rcRect l="0" t="0" r="0" b="9055"/>
          <a:stretch/>
        </p:blipFill>
        <p:spPr>
          <a:xfrm>
            <a:off x="4951440" y="3733920"/>
            <a:ext cx="4116240" cy="27414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383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photosystems in thylakoid membran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ollections of chlorophyll molecules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ct as light-gathering “antenna complex”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hotosystem II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chlorophyll </a:t>
            </a: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f116a"/>
                </a:solidFill>
                <a:latin typeface="Arial"/>
              </a:rPr>
              <a:t>680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= absorbs 680nm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light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hotosystem I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chlorophyll </a:t>
            </a: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b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f116a"/>
                </a:solidFill>
                <a:latin typeface="Arial"/>
              </a:rPr>
              <a:t>700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= absorbs 700nm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light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917960" y="2843280"/>
            <a:ext cx="1468440" cy="885960"/>
          </a:xfrm>
          <a:prstGeom prst="rect">
            <a:avLst/>
          </a:prstGeom>
          <a:solidFill>
            <a:srgbClr val="b5ddbd"/>
          </a:solidFill>
          <a:ln w="9360">
            <a:solidFill>
              <a:srgbClr val="006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700"/>
                </a:solidFill>
                <a:latin typeface="Arial"/>
              </a:rPr>
              <a:t>reaction</a:t>
            </a:r>
            <a:br>
              <a:rPr sz="2600"/>
            </a:br>
            <a:r>
              <a:rPr b="1" lang="en-US" sz="2600" spc="-1" strike="noStrike">
                <a:solidFill>
                  <a:srgbClr val="006700"/>
                </a:solidFill>
                <a:latin typeface="Arial"/>
              </a:rPr>
              <a:t>center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431120" y="5886360"/>
            <a:ext cx="1652760" cy="885960"/>
          </a:xfrm>
          <a:prstGeom prst="rect">
            <a:avLst/>
          </a:prstGeom>
          <a:solidFill>
            <a:srgbClr val="006700"/>
          </a:solidFill>
          <a:ln w="9360">
            <a:solidFill>
              <a:srgbClr val="b5d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5ddbd"/>
                </a:solidFill>
                <a:latin typeface="Arial"/>
              </a:rPr>
              <a:t>antenna</a:t>
            </a:r>
            <a:br>
              <a:rPr sz="2600"/>
            </a:br>
            <a:r>
              <a:rPr b="1" lang="en-US" sz="2600" spc="-1" strike="noStrike">
                <a:solidFill>
                  <a:srgbClr val="b5ddbd"/>
                </a:solidFill>
                <a:latin typeface="Arial"/>
              </a:rPr>
              <a:t>pigment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584680" y="3624120"/>
            <a:ext cx="978120" cy="117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1080" y="5303880"/>
            <a:ext cx="674640" cy="741240"/>
          </a:xfrm>
          <a:custGeom>
            <a:avLst/>
            <a:gdLst/>
            <a:ahLst/>
            <a:rect l="l" t="t" r="r" b="b"/>
            <a:pathLst>
              <a:path w="425" h="467">
                <a:moveTo>
                  <a:pt x="0" y="225"/>
                </a:moveTo>
                <a:lnTo>
                  <a:pt x="425" y="467"/>
                </a:lnTo>
                <a:lnTo>
                  <a:pt x="33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rcRect l="0" t="0" r="0" b="3310"/>
          <a:stretch/>
        </p:blipFill>
        <p:spPr>
          <a:xfrm>
            <a:off x="1440" y="568440"/>
            <a:ext cx="9002880" cy="62132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4919040" y="424800"/>
            <a:ext cx="406836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Photosynthe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52600" y="2808360"/>
            <a:ext cx="1252440" cy="1725480"/>
          </a:xfrm>
          <a:prstGeom prst="ellipse">
            <a:avLst/>
          </a:prstGeom>
          <a:noFill/>
          <a:ln w="57240">
            <a:solidFill>
              <a:srgbClr val="006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71960" y="2689200"/>
            <a:ext cx="1212840" cy="1685880"/>
          </a:xfrm>
          <a:prstGeom prst="ellipse">
            <a:avLst/>
          </a:prstGeom>
          <a:noFill/>
          <a:ln w="57240">
            <a:solidFill>
              <a:srgbClr val="006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647800" y="998640"/>
            <a:ext cx="2349360" cy="1755720"/>
            <a:chOff x="2647800" y="998640"/>
            <a:chExt cx="2349360" cy="1755720"/>
          </a:xfrm>
        </p:grpSpPr>
        <p:sp>
          <p:nvSpPr>
            <p:cNvPr id="452" name=""/>
            <p:cNvSpPr/>
            <p:nvPr/>
          </p:nvSpPr>
          <p:spPr>
            <a:xfrm>
              <a:off x="2647800" y="998640"/>
              <a:ext cx="2349360" cy="459720"/>
            </a:xfrm>
            <a:prstGeom prst="rect">
              <a:avLst/>
            </a:prstGeom>
            <a:noFill/>
            <a:ln w="28440">
              <a:solidFill>
                <a:srgbClr val="8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800"/>
                  </a:solidFill>
                  <a:uFillTx/>
                  <a:latin typeface="Arial"/>
                </a:rPr>
                <a:t>Photosystem II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3166920" y="1380960"/>
              <a:ext cx="412560" cy="1373400"/>
            </a:xfrm>
            <a:prstGeom prst="line">
              <a:avLst/>
            </a:prstGeom>
            <a:ln w="38160">
              <a:solidFill>
                <a:srgbClr val="04a4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330440" y="1609560"/>
            <a:ext cx="2264040" cy="1073160"/>
            <a:chOff x="4330440" y="1609560"/>
            <a:chExt cx="2264040" cy="1073160"/>
          </a:xfrm>
        </p:grpSpPr>
        <p:sp>
          <p:nvSpPr>
            <p:cNvPr id="455" name=""/>
            <p:cNvSpPr/>
            <p:nvPr/>
          </p:nvSpPr>
          <p:spPr>
            <a:xfrm>
              <a:off x="4330440" y="1609560"/>
              <a:ext cx="2264040" cy="459720"/>
            </a:xfrm>
            <a:prstGeom prst="rect">
              <a:avLst/>
            </a:prstGeom>
            <a:noFill/>
            <a:ln w="28440">
              <a:solidFill>
                <a:srgbClr val="8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800"/>
                  </a:solidFill>
                  <a:uFillTx/>
                  <a:latin typeface="Arial"/>
                </a:rPr>
                <a:t>Photosystem I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5651280" y="2008080"/>
              <a:ext cx="198360" cy="674640"/>
            </a:xfrm>
            <a:prstGeom prst="line">
              <a:avLst/>
            </a:prstGeom>
            <a:ln w="38160">
              <a:solidFill>
                <a:srgbClr val="04a4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rcRect l="0" t="0" r="0" b="3895"/>
          <a:stretch/>
        </p:blipFill>
        <p:spPr>
          <a:xfrm>
            <a:off x="272880" y="457200"/>
            <a:ext cx="8618760" cy="583884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rcRect l="0" t="0" r="0" b="3895"/>
          <a:stretch/>
        </p:blipFill>
        <p:spPr>
          <a:xfrm>
            <a:off x="272880" y="457200"/>
            <a:ext cx="8620200" cy="58402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 flipH="1">
            <a:off x="11412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7760" y="456480"/>
            <a:ext cx="406836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Photosynthe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125520" y="2635200"/>
            <a:ext cx="1009800" cy="1310760"/>
            <a:chOff x="3125520" y="2635200"/>
            <a:chExt cx="1009800" cy="1310760"/>
          </a:xfrm>
        </p:grpSpPr>
        <p:sp>
          <p:nvSpPr>
            <p:cNvPr id="462" name=""/>
            <p:cNvSpPr/>
            <p:nvPr/>
          </p:nvSpPr>
          <p:spPr>
            <a:xfrm flipH="1">
              <a:off x="3405240" y="2635200"/>
              <a:ext cx="730080" cy="9842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25520" y="357768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712760" y="3817800"/>
            <a:ext cx="1009800" cy="1310760"/>
            <a:chOff x="4712760" y="3817800"/>
            <a:chExt cx="1009800" cy="1310760"/>
          </a:xfrm>
        </p:grpSpPr>
        <p:sp>
          <p:nvSpPr>
            <p:cNvPr id="465" name=""/>
            <p:cNvSpPr/>
            <p:nvPr/>
          </p:nvSpPr>
          <p:spPr>
            <a:xfrm flipH="1">
              <a:off x="4992480" y="3817800"/>
              <a:ext cx="730080" cy="9842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712760" y="476028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746280" y="3238560"/>
            <a:ext cx="1817640" cy="1785960"/>
          </a:xfrm>
          <a:custGeom>
            <a:avLst/>
            <a:gdLst/>
            <a:ahLst/>
            <a:rect l="l" t="t" r="r" b="b"/>
            <a:pathLst>
              <a:path w="1145" h="1125">
                <a:moveTo>
                  <a:pt x="0" y="40"/>
                </a:moveTo>
                <a:lnTo>
                  <a:pt x="5" y="665"/>
                </a:lnTo>
                <a:lnTo>
                  <a:pt x="200" y="935"/>
                </a:lnTo>
                <a:lnTo>
                  <a:pt x="680" y="1095"/>
                </a:lnTo>
                <a:cubicBezTo>
                  <a:pt x="896" y="1125"/>
                  <a:pt x="822" y="1125"/>
                  <a:pt x="900" y="1125"/>
                </a:cubicBezTo>
                <a:lnTo>
                  <a:pt x="940" y="1100"/>
                </a:lnTo>
                <a:cubicBezTo>
                  <a:pt x="919" y="996"/>
                  <a:pt x="889" y="1015"/>
                  <a:pt x="930" y="995"/>
                </a:cubicBezTo>
                <a:lnTo>
                  <a:pt x="1145" y="940"/>
                </a:lnTo>
                <a:lnTo>
                  <a:pt x="1125" y="680"/>
                </a:lnTo>
                <a:lnTo>
                  <a:pt x="980" y="275"/>
                </a:lnTo>
                <a:lnTo>
                  <a:pt x="495" y="0"/>
                </a:lnTo>
                <a:lnTo>
                  <a:pt x="0" y="40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57480" y="4578480"/>
            <a:ext cx="2633400" cy="1773000"/>
          </a:xfrm>
          <a:prstGeom prst="ellipse">
            <a:avLst/>
          </a:prstGeom>
          <a:noFill/>
          <a:ln w="57240">
            <a:solidFill>
              <a:srgbClr val="006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182680" y="3278160"/>
            <a:ext cx="317520" cy="317520"/>
          </a:xfrm>
          <a:prstGeom prst="ellipse">
            <a:avLst/>
          </a:prstGeom>
          <a:solidFill>
            <a:srgbClr val="0068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016600" y="2992320"/>
            <a:ext cx="317520" cy="317520"/>
          </a:xfrm>
          <a:prstGeom prst="ellipse">
            <a:avLst/>
          </a:prstGeom>
          <a:solidFill>
            <a:srgbClr val="0068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03640" y="4500720"/>
            <a:ext cx="317520" cy="317520"/>
          </a:xfrm>
          <a:prstGeom prst="ellipse">
            <a:avLst/>
          </a:prstGeom>
          <a:solidFill>
            <a:srgbClr val="0068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5827680" y="5002200"/>
            <a:ext cx="1406520" cy="1744560"/>
            <a:chOff x="5827680" y="5002200"/>
            <a:chExt cx="1406520" cy="1744560"/>
          </a:xfrm>
        </p:grpSpPr>
        <p:pic>
          <p:nvPicPr>
            <p:cNvPr id="473" name="" descr=""/>
            <p:cNvPicPr/>
            <p:nvPr/>
          </p:nvPicPr>
          <p:blipFill>
            <a:blip r:embed="rId3"/>
            <a:srcRect l="22500" t="4504" r="22500" b="4504"/>
            <a:stretch/>
          </p:blipFill>
          <p:spPr>
            <a:xfrm>
              <a:off x="5827680" y="5002200"/>
              <a:ext cx="140652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6744960" y="660528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42440" y="6243480"/>
              <a:ext cx="361800" cy="12132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f116a"/>
                  </a:solidFill>
                  <a:latin typeface="Arial"/>
                </a:rPr>
                <a:t>ADP + P</a:t>
              </a:r>
              <a:r>
                <a:rPr b="1" lang="en-US" sz="700" spc="-1" strike="noStrike" baseline="-25000">
                  <a:solidFill>
                    <a:srgbClr val="0f116a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44920" y="522252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32080" y="525096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44680" y="507492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517800" y="525096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62520" y="521496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24360" y="509544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41840" y="509436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70120" y="501660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5751360" y="6400800"/>
            <a:ext cx="552600" cy="361800"/>
          </a:xfrm>
          <a:prstGeom prst="irregularSeal1">
            <a:avLst/>
          </a:prstGeom>
          <a:solidFill>
            <a:srgbClr val="ffea18"/>
          </a:solidFill>
          <a:ln w="284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33520" y="2919240"/>
            <a:ext cx="676440" cy="4557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5214960" y="4278240"/>
            <a:ext cx="3871800" cy="1452600"/>
            <a:chOff x="5214960" y="4278240"/>
            <a:chExt cx="3871800" cy="1452600"/>
          </a:xfrm>
        </p:grpSpPr>
        <p:sp>
          <p:nvSpPr>
            <p:cNvPr id="487" name=""/>
            <p:cNvSpPr/>
            <p:nvPr/>
          </p:nvSpPr>
          <p:spPr>
            <a:xfrm>
              <a:off x="5214960" y="4651200"/>
              <a:ext cx="2563920" cy="1079640"/>
            </a:xfrm>
            <a:custGeom>
              <a:avLst/>
              <a:gdLst/>
              <a:ahLst/>
              <a:rect l="l" t="t" r="r" b="b"/>
              <a:pathLst>
                <a:path w="1730" h="720">
                  <a:moveTo>
                    <a:pt x="0" y="720"/>
                  </a:moveTo>
                  <a:cubicBezTo>
                    <a:pt x="91" y="586"/>
                    <a:pt x="182" y="452"/>
                    <a:pt x="325" y="350"/>
                  </a:cubicBezTo>
                  <a:cubicBezTo>
                    <a:pt x="468" y="248"/>
                    <a:pt x="621" y="163"/>
                    <a:pt x="855" y="105"/>
                  </a:cubicBezTo>
                  <a:cubicBezTo>
                    <a:pt x="1089" y="47"/>
                    <a:pt x="1409" y="23"/>
                    <a:pt x="1730" y="0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818480" y="4278240"/>
              <a:ext cx="1268280" cy="1098720"/>
            </a:xfrm>
            <a:custGeom>
              <a:avLst/>
              <a:gdLst>
                <a:gd name="textAreaLeft" fmla="*/ 0 w 1268280"/>
                <a:gd name="textAreaRight" fmla="*/ 1268640 w 1268280"/>
                <a:gd name="textAreaTop" fmla="*/ 0 h 1098720"/>
                <a:gd name="textAreaBottom" fmla="*/ 1099080 h 109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to the</a:t>
              </a:r>
              <a:br>
                <a:rPr sz="2200"/>
              </a:b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Calvin Cycle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/>
          <a:srcRect l="0" t="0" r="0" b="3895"/>
          <a:stretch/>
        </p:blipFill>
        <p:spPr>
          <a:xfrm>
            <a:off x="272880" y="457200"/>
            <a:ext cx="8618760" cy="58388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2333520" y="2919240"/>
            <a:ext cx="676440" cy="4557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rcRect l="0" t="0" r="0" b="3895"/>
          <a:stretch/>
        </p:blipFill>
        <p:spPr>
          <a:xfrm>
            <a:off x="272880" y="457200"/>
            <a:ext cx="8620200" cy="583884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69960" y="3411360"/>
            <a:ext cx="2085840" cy="2448000"/>
          </a:xfrm>
          <a:custGeom>
            <a:avLst/>
            <a:gdLst>
              <a:gd name="textAreaLeft" fmla="*/ 101520 w 2085840"/>
              <a:gd name="textAreaRight" fmla="*/ 1984320 w 2085840"/>
              <a:gd name="textAreaTop" fmla="*/ 101520 h 2448000"/>
              <a:gd name="textAreaBottom" fmla="*/ 2346480 h 2448000"/>
            </a:gdLst>
            <a:ahLst/>
            <a:rect l="textAreaLeft" t="textAreaTop" r="textAreaRight" b="textAreaBottom"/>
            <a:pathLst>
              <a:path w="21600" h="25350">
                <a:moveTo>
                  <a:pt x="3600" y="0"/>
                </a:moveTo>
                <a:arcTo wR="3600" hR="3600" stAng="16200000" swAng="-5400000"/>
                <a:lnTo>
                  <a:pt x="0" y="21750"/>
                </a:lnTo>
                <a:arcTo wR="3600" hR="3600" stAng="10800000" swAng="-5400000"/>
                <a:lnTo>
                  <a:pt x="18000" y="25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rcRect l="0" t="0" r="0" b="3895"/>
          <a:stretch/>
        </p:blipFill>
        <p:spPr>
          <a:xfrm>
            <a:off x="272880" y="457200"/>
            <a:ext cx="8620200" cy="58402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2182680" y="3278160"/>
            <a:ext cx="317520" cy="317520"/>
          </a:xfrm>
          <a:prstGeom prst="ellipse">
            <a:avLst/>
          </a:prstGeom>
          <a:solidFill>
            <a:srgbClr val="0068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63800" y="3444840"/>
            <a:ext cx="317160" cy="317520"/>
          </a:xfrm>
          <a:prstGeom prst="ellipse">
            <a:avLst/>
          </a:prstGeom>
          <a:solidFill>
            <a:srgbClr val="0068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 rot="1974000">
            <a:off x="400680" y="4256640"/>
            <a:ext cx="1014120" cy="387360"/>
          </a:xfrm>
          <a:custGeom>
            <a:avLst/>
            <a:gdLst/>
            <a:ahLst/>
            <a:rect l="l" t="t" r="r" b="b"/>
            <a:pathLst>
              <a:path w="639" h="244">
                <a:moveTo>
                  <a:pt x="0" y="192"/>
                </a:moveTo>
                <a:lnTo>
                  <a:pt x="192" y="244"/>
                </a:lnTo>
                <a:lnTo>
                  <a:pt x="192" y="96"/>
                </a:lnTo>
                <a:lnTo>
                  <a:pt x="336" y="134"/>
                </a:lnTo>
                <a:lnTo>
                  <a:pt x="336" y="0"/>
                </a:lnTo>
                <a:cubicBezTo>
                  <a:pt x="596" y="69"/>
                  <a:pt x="493" y="54"/>
                  <a:pt x="639" y="7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3125520" y="2635200"/>
            <a:ext cx="1009800" cy="1310760"/>
            <a:chOff x="3125520" y="2635200"/>
            <a:chExt cx="1009800" cy="1310760"/>
          </a:xfrm>
        </p:grpSpPr>
        <p:sp>
          <p:nvSpPr>
            <p:cNvPr id="498" name=""/>
            <p:cNvSpPr/>
            <p:nvPr/>
          </p:nvSpPr>
          <p:spPr>
            <a:xfrm flipH="1">
              <a:off x="3405240" y="2635200"/>
              <a:ext cx="730080" cy="9842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125520" y="357768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4712760" y="3817800"/>
            <a:ext cx="1009800" cy="1310760"/>
            <a:chOff x="4712760" y="3817800"/>
            <a:chExt cx="1009800" cy="1310760"/>
          </a:xfrm>
        </p:grpSpPr>
        <p:sp>
          <p:nvSpPr>
            <p:cNvPr id="501" name=""/>
            <p:cNvSpPr/>
            <p:nvPr/>
          </p:nvSpPr>
          <p:spPr>
            <a:xfrm flipH="1">
              <a:off x="4992480" y="3817800"/>
              <a:ext cx="730080" cy="9842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12760" y="476028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5016600" y="2992320"/>
            <a:ext cx="317520" cy="317520"/>
          </a:xfrm>
          <a:prstGeom prst="ellipse">
            <a:avLst/>
          </a:prstGeom>
          <a:solidFill>
            <a:srgbClr val="0068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03640" y="4500720"/>
            <a:ext cx="317520" cy="317520"/>
          </a:xfrm>
          <a:prstGeom prst="ellipse">
            <a:avLst/>
          </a:prstGeom>
          <a:solidFill>
            <a:srgbClr val="0068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27680" y="5002200"/>
            <a:ext cx="1406520" cy="1744560"/>
            <a:chOff x="5827680" y="5002200"/>
            <a:chExt cx="1406520" cy="1744560"/>
          </a:xfrm>
        </p:grpSpPr>
        <p:pic>
          <p:nvPicPr>
            <p:cNvPr id="506" name="" descr=""/>
            <p:cNvPicPr/>
            <p:nvPr/>
          </p:nvPicPr>
          <p:blipFill>
            <a:blip r:embed="rId4"/>
            <a:srcRect l="22500" t="4504" r="22500" b="4504"/>
            <a:stretch/>
          </p:blipFill>
          <p:spPr>
            <a:xfrm>
              <a:off x="5827680" y="5002200"/>
              <a:ext cx="140652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6744960" y="660528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42440" y="6243480"/>
              <a:ext cx="361800" cy="12132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f116a"/>
                  </a:solidFill>
                  <a:latin typeface="Arial"/>
                </a:rPr>
                <a:t>ADP + P</a:t>
              </a:r>
              <a:r>
                <a:rPr b="1" lang="en-US" sz="700" spc="-1" strike="noStrike" baseline="-25000">
                  <a:solidFill>
                    <a:srgbClr val="0f116a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44920" y="522252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32080" y="525096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44680" y="507492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17800" y="525096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662520" y="521496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24360" y="509544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41840" y="509436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70120" y="501660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5751360" y="6400800"/>
            <a:ext cx="552600" cy="361800"/>
          </a:xfrm>
          <a:prstGeom prst="irregularSeal1">
            <a:avLst/>
          </a:prstGeom>
          <a:solidFill>
            <a:srgbClr val="ffea18"/>
          </a:solidFill>
          <a:ln w="284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7760" y="456480"/>
            <a:ext cx="406836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Photosynthe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5214960" y="4278240"/>
            <a:ext cx="3871800" cy="1452600"/>
            <a:chOff x="5214960" y="4278240"/>
            <a:chExt cx="3871800" cy="1452600"/>
          </a:xfrm>
        </p:grpSpPr>
        <p:sp>
          <p:nvSpPr>
            <p:cNvPr id="520" name=""/>
            <p:cNvSpPr/>
            <p:nvPr/>
          </p:nvSpPr>
          <p:spPr>
            <a:xfrm>
              <a:off x="5214960" y="4651200"/>
              <a:ext cx="2563920" cy="1079640"/>
            </a:xfrm>
            <a:custGeom>
              <a:avLst/>
              <a:gdLst/>
              <a:ahLst/>
              <a:rect l="l" t="t" r="r" b="b"/>
              <a:pathLst>
                <a:path w="1730" h="720">
                  <a:moveTo>
                    <a:pt x="0" y="720"/>
                  </a:moveTo>
                  <a:cubicBezTo>
                    <a:pt x="91" y="586"/>
                    <a:pt x="182" y="452"/>
                    <a:pt x="325" y="350"/>
                  </a:cubicBezTo>
                  <a:cubicBezTo>
                    <a:pt x="468" y="248"/>
                    <a:pt x="621" y="163"/>
                    <a:pt x="855" y="105"/>
                  </a:cubicBezTo>
                  <a:cubicBezTo>
                    <a:pt x="1089" y="47"/>
                    <a:pt x="1409" y="23"/>
                    <a:pt x="1730" y="0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18480" y="4278240"/>
              <a:ext cx="1268280" cy="1098720"/>
            </a:xfrm>
            <a:custGeom>
              <a:avLst/>
              <a:gdLst>
                <a:gd name="textAreaLeft" fmla="*/ 0 w 1268280"/>
                <a:gd name="textAreaRight" fmla="*/ 1268640 w 1268280"/>
                <a:gd name="textAreaTop" fmla="*/ 0 h 1098720"/>
                <a:gd name="textAreaBottom" fmla="*/ 1099080 h 109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to the</a:t>
              </a:r>
              <a:br>
                <a:rPr sz="2200"/>
              </a:b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Calvin Cycle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rcRect l="0" t="0" r="0" b="3895"/>
          <a:stretch/>
        </p:blipFill>
        <p:spPr>
          <a:xfrm>
            <a:off x="272880" y="457200"/>
            <a:ext cx="8620200" cy="58402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"/>
          <a:srcRect l="0" t="0" r="0" b="3895"/>
          <a:stretch/>
        </p:blipFill>
        <p:spPr>
          <a:xfrm>
            <a:off x="272880" y="457200"/>
            <a:ext cx="8629920" cy="584532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"/>
          <a:srcRect l="0" t="1266" r="0" b="3786"/>
          <a:stretch/>
        </p:blipFill>
        <p:spPr>
          <a:xfrm>
            <a:off x="272880" y="455760"/>
            <a:ext cx="8710920" cy="5894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577760" y="456480"/>
            <a:ext cx="406836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Photosynthe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238880" y="2603520"/>
            <a:ext cx="317520" cy="317520"/>
          </a:xfrm>
          <a:prstGeom prst="ellipse">
            <a:avLst/>
          </a:prstGeom>
          <a:solidFill>
            <a:srgbClr val="0068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924440" y="4157640"/>
            <a:ext cx="2633760" cy="1773360"/>
          </a:xfrm>
          <a:prstGeom prst="ellipse">
            <a:avLst/>
          </a:prstGeom>
          <a:noFill/>
          <a:ln w="57240">
            <a:solidFill>
              <a:srgbClr val="006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30840" y="2530440"/>
            <a:ext cx="676440" cy="4557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15000" y="4103640"/>
            <a:ext cx="317520" cy="317520"/>
          </a:xfrm>
          <a:prstGeom prst="ellipse">
            <a:avLst/>
          </a:prstGeom>
          <a:solidFill>
            <a:srgbClr val="0068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953480" y="2768760"/>
            <a:ext cx="954000" cy="11062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7435800" y="4937040"/>
            <a:ext cx="1612800" cy="178596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4070520" y="6157800"/>
            <a:ext cx="2536560" cy="700200"/>
          </a:xfrm>
          <a:prstGeom prst="wedgeEllipseCallout">
            <a:avLst>
              <a:gd name="adj1" fmla="val 82976"/>
              <a:gd name="adj2" fmla="val -40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$$ in the bank…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reducing pow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8159760" y="3706920"/>
            <a:ext cx="1030320" cy="1233720"/>
            <a:chOff x="8159760" y="3706920"/>
            <a:chExt cx="1030320" cy="1233720"/>
          </a:xfrm>
        </p:grpSpPr>
        <p:sp>
          <p:nvSpPr>
            <p:cNvPr id="534" name=""/>
            <p:cNvSpPr/>
            <p:nvPr/>
          </p:nvSpPr>
          <p:spPr>
            <a:xfrm>
              <a:off x="8159760" y="4024440"/>
              <a:ext cx="1030320" cy="91620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916200"/>
                <a:gd name="textAreaBottom" fmla="*/ 916560 h 91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to the</a:t>
              </a:r>
              <a:br>
                <a:rPr sz="1800"/>
              </a:b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Calvin Cycl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321760" y="3706920"/>
              <a:ext cx="171360" cy="420480"/>
            </a:xfrm>
            <a:custGeom>
              <a:avLst/>
              <a:gdLst/>
              <a:ahLst/>
              <a:rect l="l" t="t" r="r" b="b"/>
              <a:pathLst>
                <a:path w="88" h="235">
                  <a:moveTo>
                    <a:pt x="38" y="0"/>
                  </a:moveTo>
                  <a:cubicBezTo>
                    <a:pt x="19" y="40"/>
                    <a:pt x="0" y="81"/>
                    <a:pt x="8" y="120"/>
                  </a:cubicBezTo>
                  <a:cubicBezTo>
                    <a:pt x="16" y="159"/>
                    <a:pt x="52" y="197"/>
                    <a:pt x="88" y="235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997760" y="1871640"/>
            <a:ext cx="1040040" cy="5490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lectron carri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500"/>
                            </p:stCondLst>
                            <p:childTnLst>
                              <p:par>
                                <p:cTn id="1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rcRect l="0" t="0" r="0" b="3310"/>
          <a:stretch/>
        </p:blipFill>
        <p:spPr>
          <a:xfrm>
            <a:off x="36360" y="577800"/>
            <a:ext cx="8988480" cy="62038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4919040" y="424800"/>
            <a:ext cx="406836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Photosynthe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8520" y="4883400"/>
            <a:ext cx="1238400" cy="44064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lit H</a:t>
            </a:r>
            <a:r>
              <a:rPr b="1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TC of Photo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TC produces from </a:t>
            </a:r>
            <a:r>
              <a:rPr b="1" lang="en-US" sz="2600" spc="-1" strike="noStrike" u="sng">
                <a:solidFill>
                  <a:srgbClr val="0c8f0f"/>
                </a:solidFill>
                <a:uFillTx/>
                <a:latin typeface="Arial"/>
              </a:rPr>
              <a:t>light energy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&amp;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o to Calvin cycl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S II absorbs </a:t>
            </a:r>
            <a:r>
              <a:rPr b="1" lang="en-US" sz="2600" spc="-1" strike="noStrike">
                <a:solidFill>
                  <a:srgbClr val="0c8f0f"/>
                </a:solidFill>
                <a:latin typeface="Arial"/>
              </a:rPr>
              <a:t>ligh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xcited electron passes from chlorophyll to “primary electron acceptor”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need to replace electron in chlorophyl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zyme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xtracts electrons from H</a:t>
            </a:r>
            <a:r>
              <a:rPr b="1" lang="en-US" sz="2400" spc="-1" strike="noStrike" u="sng" baseline="-25000">
                <a:solidFill>
                  <a:srgbClr val="cc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&amp; supplies them to chlorophyl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plits H</a:t>
            </a:r>
            <a:r>
              <a:rPr b="1" lang="en-US" sz="2400" spc="-1" strike="noStrike" u="sng" baseline="-25000">
                <a:solidFill>
                  <a:srgbClr val="cc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 combines with another O to form O</a:t>
            </a:r>
            <a:r>
              <a:rPr b="1" lang="en-US" sz="2400" spc="-1" strike="noStrike" u="sng" baseline="-25000">
                <a:solidFill>
                  <a:srgbClr val="cc0000"/>
                </a:solidFill>
                <a:uFillTx/>
                <a:latin typeface="Arial"/>
              </a:rPr>
              <a:t>2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</a:t>
            </a:r>
            <a:r>
              <a:rPr b="1" lang="en-US" sz="2400" spc="-1" strike="noStrike" u="sng" baseline="-25000">
                <a:solidFill>
                  <a:srgbClr val="cc0000"/>
                </a:solidFill>
                <a:uFillTx/>
                <a:latin typeface="Arial"/>
              </a:rPr>
              <a:t>2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released to atmospher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nd we breathe easier!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7280280" y="5011560"/>
            <a:ext cx="1280880" cy="1158840"/>
            <a:chOff x="7280280" y="5011560"/>
            <a:chExt cx="1280880" cy="1158840"/>
          </a:xfrm>
        </p:grpSpPr>
        <p:sp>
          <p:nvSpPr>
            <p:cNvPr id="109" name=""/>
            <p:cNvSpPr/>
            <p:nvPr/>
          </p:nvSpPr>
          <p:spPr>
            <a:xfrm>
              <a:off x="7341120" y="5011560"/>
              <a:ext cx="1220040" cy="85428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80280" y="5743440"/>
              <a:ext cx="365760" cy="36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90800" y="5804640"/>
              <a:ext cx="365760" cy="36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138640" y="4465800"/>
            <a:ext cx="1614600" cy="1130040"/>
          </a:xfrm>
          <a:custGeom>
            <a:avLst/>
            <a:gdLst>
              <a:gd name="textAreaLeft" fmla="*/ 368640 w 1614600"/>
              <a:gd name="textAreaRight" fmla="*/ 1245960 w 1614600"/>
              <a:gd name="textAreaTop" fmla="*/ 257760 h 1130040"/>
              <a:gd name="textAreaBottom" fmla="*/ 872280 h 113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needs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life needs a constant input of energ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terotrophs (Animals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et their energy from “eating others”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Arial"/>
              </a:rPr>
              <a:t>eat food = other organisms = 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organic molecules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ake energy through </a:t>
            </a:r>
            <a:r>
              <a:rPr b="1" lang="en-US" sz="2600" spc="-1" strike="noStrike" u="sng">
                <a:solidFill>
                  <a:srgbClr val="660000"/>
                </a:solidFill>
                <a:uFillTx/>
                <a:latin typeface="Arial"/>
              </a:rPr>
              <a:t>respiratio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c8f0f"/>
                </a:solidFill>
                <a:uFillTx/>
                <a:latin typeface="Arial"/>
              </a:rPr>
              <a:t>Autotrophs (Plants)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et their energy from “self”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et their energy from sunligh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build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organic molecules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(food) from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ake energy &amp; synthesize sugars through </a:t>
            </a:r>
            <a:r>
              <a:rPr b="1" lang="en-US" sz="2600" spc="-1" strike="noStrike" u="sng">
                <a:solidFill>
                  <a:srgbClr val="0c8f0f"/>
                </a:solidFill>
                <a:uFillTx/>
                <a:latin typeface="Arial"/>
              </a:rPr>
              <a:t>photosynthes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384800" y="2589840"/>
            <a:ext cx="3235320" cy="3035160"/>
          </a:xfrm>
          <a:custGeom>
            <a:avLst/>
            <a:gdLst>
              <a:gd name="textAreaLeft" fmla="*/ 0 w 3235320"/>
              <a:gd name="textAreaRight" fmla="*/ 3235680 w 3235320"/>
              <a:gd name="textAreaTop" fmla="*/ -360 h 3035160"/>
              <a:gd name="textAreaBottom" fmla="*/ 3035160 h 3035160"/>
            </a:gdLst>
            <a:ahLst/>
            <a:rect l="textAreaLeft" t="textAreaTop" r="textAreaRight" b="textAreaBottom"/>
            <a:pathLst>
              <a:path w="21600" h="21600">
                <a:moveTo>
                  <a:pt x="2429" y="8135"/>
                </a:moveTo>
                <a:arcTo wR="-8785" hR="-8785" stAng="-9740553" swAng="-6624775"/>
                <a:lnTo>
                  <a:pt x="10281" y="12"/>
                </a:lnTo>
                <a:arcTo wR="10800" hR="10800" stAng="-5565328" swAng="6624775"/>
                <a:lnTo>
                  <a:pt x="23664" y="14895"/>
                </a:lnTo>
                <a:lnTo>
                  <a:pt x="19007" y="17303"/>
                </a:lnTo>
                <a:lnTo>
                  <a:pt x="16598" y="12646"/>
                </a:lnTo>
                <a:close/>
              </a:path>
            </a:pathLst>
          </a:custGeom>
          <a:solidFill>
            <a:srgbClr val="cc0000">
              <a:alpha val="52000"/>
            </a:srgbClr>
          </a:solidFill>
          <a:ln w="9360">
            <a:solidFill>
              <a:srgbClr val="cc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30520" y="5253120"/>
            <a:ext cx="3276720" cy="5191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384800" y="2589840"/>
            <a:ext cx="3235320" cy="3035160"/>
          </a:xfrm>
          <a:custGeom>
            <a:avLst/>
            <a:gdLst>
              <a:gd name="textAreaLeft" fmla="*/ 0 w 3235320"/>
              <a:gd name="textAreaRight" fmla="*/ 3235680 w 3235320"/>
              <a:gd name="textAreaTop" fmla="*/ -360 h 3035160"/>
              <a:gd name="textAreaBottom" fmla="*/ 3035160 h 3035160"/>
            </a:gdLst>
            <a:ahLst/>
            <a:rect l="textAreaLeft" t="textAreaTop" r="textAreaRight" b="textAreaBottom"/>
            <a:pathLst>
              <a:path w="21600" h="21600">
                <a:moveTo>
                  <a:pt x="2429" y="8135"/>
                </a:moveTo>
                <a:arcTo wR="-8785" hR="-8785" stAng="-9740553" swAng="-4809534"/>
                <a:lnTo>
                  <a:pt x="15787" y="1220"/>
                </a:lnTo>
                <a:arcTo wR="10800" hR="10800" stAng="-3750087" swAng="4809534"/>
                <a:lnTo>
                  <a:pt x="23664" y="14895"/>
                </a:lnTo>
                <a:lnTo>
                  <a:pt x="19007" y="17303"/>
                </a:lnTo>
                <a:lnTo>
                  <a:pt x="16598" y="1264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92720" y="2768760"/>
            <a:ext cx="2633760" cy="6858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722160" y="2506680"/>
            <a:ext cx="7896240" cy="1371600"/>
            <a:chOff x="722160" y="2506680"/>
            <a:chExt cx="7896240" cy="1371600"/>
          </a:xfrm>
        </p:grpSpPr>
        <p:grpSp>
          <p:nvGrpSpPr>
            <p:cNvPr id="543" name=""/>
            <p:cNvGrpSpPr/>
            <p:nvPr/>
          </p:nvGrpSpPr>
          <p:grpSpPr>
            <a:xfrm>
              <a:off x="846000" y="2963880"/>
              <a:ext cx="7772400" cy="914400"/>
              <a:chOff x="846000" y="2963880"/>
              <a:chExt cx="7772400" cy="914400"/>
            </a:xfrm>
          </p:grpSpPr>
          <p:sp>
            <p:nvSpPr>
              <p:cNvPr id="544" name=""/>
              <p:cNvSpPr/>
              <p:nvPr/>
            </p:nvSpPr>
            <p:spPr>
              <a:xfrm>
                <a:off x="846000" y="2963880"/>
                <a:ext cx="7772400" cy="91440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1164240" y="3147840"/>
                <a:ext cx="6743160" cy="727560"/>
                <a:chOff x="1164240" y="3147840"/>
                <a:chExt cx="6743160" cy="7275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1164240" y="315684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CO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556360" y="315684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H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O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447520" y="3174120"/>
                  <a:ext cx="1253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H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12</a:t>
                  </a: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O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7178040" y="3156840"/>
                  <a:ext cx="7293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O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665520" y="3147840"/>
                  <a:ext cx="126720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light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energy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919760" y="3153600"/>
                  <a:ext cx="4899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3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169000" y="318420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714000" y="318420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464640" y="318420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5" name=""/>
            <p:cNvSpPr/>
            <p:nvPr/>
          </p:nvSpPr>
          <p:spPr>
            <a:xfrm>
              <a:off x="722160" y="2506680"/>
              <a:ext cx="18432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xperimental evidenc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adioactive tracer =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8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713520" y="2514240"/>
            <a:ext cx="7896960" cy="1371960"/>
            <a:chOff x="713520" y="2514240"/>
            <a:chExt cx="7896960" cy="1371960"/>
          </a:xfrm>
        </p:grpSpPr>
        <p:grpSp>
          <p:nvGrpSpPr>
            <p:cNvPr id="559" name=""/>
            <p:cNvGrpSpPr/>
            <p:nvPr/>
          </p:nvGrpSpPr>
          <p:grpSpPr>
            <a:xfrm>
              <a:off x="838080" y="2971800"/>
              <a:ext cx="7772400" cy="914400"/>
              <a:chOff x="838080" y="2971800"/>
              <a:chExt cx="7772400" cy="914400"/>
            </a:xfrm>
          </p:grpSpPr>
          <p:sp>
            <p:nvSpPr>
              <p:cNvPr id="560" name=""/>
              <p:cNvSpPr/>
              <p:nvPr/>
            </p:nvSpPr>
            <p:spPr>
              <a:xfrm>
                <a:off x="838080" y="2971800"/>
                <a:ext cx="7772400" cy="91440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561" name=""/>
              <p:cNvGrpSpPr/>
              <p:nvPr/>
            </p:nvGrpSpPr>
            <p:grpSpPr>
              <a:xfrm>
                <a:off x="1156320" y="3155760"/>
                <a:ext cx="6742800" cy="727560"/>
                <a:chOff x="1156320" y="3155760"/>
                <a:chExt cx="6742800" cy="72756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1156320" y="316476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CO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548440" y="316476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H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439600" y="3182040"/>
                  <a:ext cx="1253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H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12</a:t>
                  </a: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O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170120" y="3164760"/>
                  <a:ext cx="7290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657600" y="3155760"/>
                  <a:ext cx="126720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light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energy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4911840" y="3161520"/>
                  <a:ext cx="4899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3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161080" y="319212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706080" y="319212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456720" y="319212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1" name=""/>
            <p:cNvSpPr/>
            <p:nvPr/>
          </p:nvSpPr>
          <p:spPr>
            <a:xfrm>
              <a:off x="713520" y="2514240"/>
              <a:ext cx="225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c8f0f"/>
                  </a:solidFill>
                  <a:latin typeface="Arial"/>
                </a:rPr>
                <a:t>Experiment 1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713520" y="4190760"/>
            <a:ext cx="7896960" cy="1371960"/>
            <a:chOff x="713520" y="4190760"/>
            <a:chExt cx="7896960" cy="1371960"/>
          </a:xfrm>
        </p:grpSpPr>
        <p:grpSp>
          <p:nvGrpSpPr>
            <p:cNvPr id="573" name=""/>
            <p:cNvGrpSpPr/>
            <p:nvPr/>
          </p:nvGrpSpPr>
          <p:grpSpPr>
            <a:xfrm>
              <a:off x="838080" y="4648320"/>
              <a:ext cx="7772400" cy="914400"/>
              <a:chOff x="838080" y="4648320"/>
              <a:chExt cx="7772400" cy="914400"/>
            </a:xfrm>
          </p:grpSpPr>
          <p:sp>
            <p:nvSpPr>
              <p:cNvPr id="574" name=""/>
              <p:cNvSpPr/>
              <p:nvPr/>
            </p:nvSpPr>
            <p:spPr>
              <a:xfrm>
                <a:off x="838080" y="4648320"/>
                <a:ext cx="7772400" cy="91440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1156320" y="4832280"/>
                <a:ext cx="6743160" cy="727560"/>
                <a:chOff x="1156320" y="4832280"/>
                <a:chExt cx="6743160" cy="7275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1156320" y="484128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C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548440" y="484128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H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O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439600" y="4858560"/>
                  <a:ext cx="1253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H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12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170120" y="4841280"/>
                  <a:ext cx="7293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O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657600" y="4832280"/>
                  <a:ext cx="126720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light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energy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911840" y="4838040"/>
                  <a:ext cx="4899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3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161080" y="48686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6706080" y="48686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456720" y="48686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5" name=""/>
            <p:cNvSpPr/>
            <p:nvPr/>
          </p:nvSpPr>
          <p:spPr>
            <a:xfrm>
              <a:off x="713520" y="4190760"/>
              <a:ext cx="225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c8f0f"/>
                  </a:solidFill>
                  <a:latin typeface="Arial"/>
                </a:rPr>
                <a:t>Experiment 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4280" y="6230160"/>
            <a:ext cx="8423280" cy="5446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roved 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ame from 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 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not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= plants split 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oncyclic Photophosphoryl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7240" y="1600200"/>
            <a:ext cx="4718160" cy="518148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ght reactions elevate electrons i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steps (PS II &amp; PS I)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S II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generate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ergy a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T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S I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generate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educing power a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NADP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yclic photophosphoryl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379760" y="1600200"/>
            <a:ext cx="4718160" cy="518148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99760" y="1371240"/>
            <a:ext cx="487044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f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PS 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an’t pass electron to NADP…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t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cycles back to PS I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&amp; makes more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, but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no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NADP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ordinates light reactions to Calvin cycl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lvin cycle uses more ATP than NADP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5977080" y="1643040"/>
            <a:ext cx="2008080" cy="1214640"/>
          </a:xfrm>
          <a:custGeom>
            <a:avLst/>
            <a:gdLst>
              <a:gd name="textAreaLeft" fmla="*/ 360 w 2008080"/>
              <a:gd name="textAreaRight" fmla="*/ 2008800 w 2008080"/>
              <a:gd name="textAreaTop" fmla="*/ 0 h 1214640"/>
              <a:gd name="textAreaBottom" fmla="*/ 1215000 h 1214640"/>
            </a:gdLst>
            <a:ahLst/>
            <a:rect l="textAreaLeft" t="textAreaTop" r="textAreaRight" b="textAreaBottom"/>
            <a:pathLst>
              <a:path w="21600" h="21600">
                <a:moveTo>
                  <a:pt x="3586" y="10193"/>
                </a:moveTo>
                <a:arcTo wR="-7239" hR="-7239" stAng="-10511421" swAng="-10284798"/>
                <a:lnTo>
                  <a:pt x="294" y="8298"/>
                </a:lnTo>
                <a:arcTo wR="10800" hR="10800" stAng="-9996219" swAng="10284798"/>
                <a:lnTo>
                  <a:pt x="24252" y="11932"/>
                </a:lnTo>
                <a:lnTo>
                  <a:pt x="19412" y="16021"/>
                </a:lnTo>
                <a:lnTo>
                  <a:pt x="15323" y="11181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213400" y="2785320"/>
            <a:ext cx="7066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6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phosphorylation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rcRect l="0" t="0" r="0" b="4476"/>
          <a:stretch/>
        </p:blipFill>
        <p:spPr>
          <a:xfrm>
            <a:off x="990720" y="2209680"/>
            <a:ext cx="7173720" cy="41371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6139800" y="4555080"/>
            <a:ext cx="2881080" cy="7038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oncycli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hotophosphoryl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339200" y="1506960"/>
            <a:ext cx="2881080" cy="7038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ycli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hotophosphoryl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 summar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283760"/>
            <a:ext cx="77724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energy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electrons come from?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go?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ATP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will the ATP be used for?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NADPH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will the NADPH be used for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43560" y="6334560"/>
            <a:ext cx="4496760" cy="4291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i="1" lang="en-US" sz="2200" spc="-1" strike="noStrike">
                <a:solidFill>
                  <a:srgbClr val="660066"/>
                </a:solidFill>
                <a:latin typeface="Arial"/>
              </a:rPr>
              <a:t>stay tuned for the Calvin cycl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6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6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6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6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500"/>
                            </p:stCondLst>
                            <p:childTnLst>
                              <p:par>
                                <p:cTn id="15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omat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2209680" cy="21639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5562720" y="4267080"/>
            <a:ext cx="3504960" cy="252432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3"/>
          <a:stretch/>
        </p:blipFill>
        <p:spPr>
          <a:xfrm>
            <a:off x="609480" y="1600200"/>
            <a:ext cx="48769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needs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onsumer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nimal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ungi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st bacteria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8f0f"/>
                </a:solidFill>
                <a:latin typeface="Arial"/>
              </a:rPr>
              <a:t>Autotroph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ducer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lan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hotosynthetic bacteria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(blue-green algae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076800" y="1006560"/>
            <a:ext cx="2823840" cy="5533560"/>
            <a:chOff x="6076800" y="1006560"/>
            <a:chExt cx="2823840" cy="553356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rcRect l="18000" t="24000" r="18000" b="24000"/>
            <a:stretch/>
          </p:blipFill>
          <p:spPr>
            <a:xfrm>
              <a:off x="6076800" y="1006560"/>
              <a:ext cx="2823840" cy="172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6076800" y="2754360"/>
              <a:ext cx="2823840" cy="188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6076800" y="4660920"/>
              <a:ext cx="2823840" cy="187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are they connected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16040" y="2134440"/>
            <a:ext cx="7772400" cy="1677240"/>
            <a:chOff x="716040" y="2134440"/>
            <a:chExt cx="7772400" cy="1677240"/>
          </a:xfrm>
        </p:grpSpPr>
        <p:grpSp>
          <p:nvGrpSpPr>
            <p:cNvPr id="127" name=""/>
            <p:cNvGrpSpPr/>
            <p:nvPr/>
          </p:nvGrpSpPr>
          <p:grpSpPr>
            <a:xfrm>
              <a:off x="716040" y="2134440"/>
              <a:ext cx="7772400" cy="871200"/>
              <a:chOff x="716040" y="2134440"/>
              <a:chExt cx="7772400" cy="871200"/>
            </a:xfrm>
          </p:grpSpPr>
          <p:sp>
            <p:nvSpPr>
              <p:cNvPr id="128" name=""/>
              <p:cNvSpPr/>
              <p:nvPr/>
            </p:nvSpPr>
            <p:spPr>
              <a:xfrm>
                <a:off x="716040" y="2135160"/>
                <a:ext cx="7772400" cy="762120"/>
              </a:xfrm>
              <a:prstGeom prst="rect">
                <a:avLst/>
              </a:prstGeom>
              <a:solidFill>
                <a:srgbClr val="ffe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868680" y="2134440"/>
                <a:ext cx="7272000" cy="871200"/>
                <a:chOff x="868680" y="2134440"/>
                <a:chExt cx="7272000" cy="871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868680" y="2134440"/>
                  <a:ext cx="72720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glucose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oxygen </a:t>
                  </a: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carbon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water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energy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174920" y="2515680"/>
                  <a:ext cx="134064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dioxide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" name=""/>
            <p:cNvGrpSpPr/>
            <p:nvPr/>
          </p:nvGrpSpPr>
          <p:grpSpPr>
            <a:xfrm>
              <a:off x="716040" y="2897280"/>
              <a:ext cx="7772400" cy="914400"/>
              <a:chOff x="716040" y="2897280"/>
              <a:chExt cx="7772400" cy="914400"/>
            </a:xfrm>
          </p:grpSpPr>
          <p:sp>
            <p:nvSpPr>
              <p:cNvPr id="133" name=""/>
              <p:cNvSpPr/>
              <p:nvPr/>
            </p:nvSpPr>
            <p:spPr>
              <a:xfrm>
                <a:off x="716040" y="2897280"/>
                <a:ext cx="7772400" cy="91440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895680" y="3087360"/>
                <a:ext cx="7065360" cy="550800"/>
                <a:chOff x="895680" y="3087360"/>
                <a:chExt cx="7065360" cy="5508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895680" y="3090240"/>
                  <a:ext cx="134352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C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H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12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96840" y="3090240"/>
                  <a:ext cx="7293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02800" y="309024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C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736600" y="309024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H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117200" y="3117600"/>
                  <a:ext cx="84384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ATP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772080" y="3087360"/>
                  <a:ext cx="4899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3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245680" y="311760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365080" y="311760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639840" y="311760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4" name=""/>
          <p:cNvSpPr/>
          <p:nvPr/>
        </p:nvSpPr>
        <p:spPr>
          <a:xfrm>
            <a:off x="717480" y="1220040"/>
            <a:ext cx="257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16040" y="4901400"/>
            <a:ext cx="7772400" cy="1677240"/>
            <a:chOff x="716040" y="4901400"/>
            <a:chExt cx="7772400" cy="1677240"/>
          </a:xfrm>
        </p:grpSpPr>
        <p:grpSp>
          <p:nvGrpSpPr>
            <p:cNvPr id="146" name=""/>
            <p:cNvGrpSpPr/>
            <p:nvPr/>
          </p:nvGrpSpPr>
          <p:grpSpPr>
            <a:xfrm>
              <a:off x="716040" y="4901400"/>
              <a:ext cx="7772400" cy="838800"/>
              <a:chOff x="716040" y="4901400"/>
              <a:chExt cx="7772400" cy="838800"/>
            </a:xfrm>
          </p:grpSpPr>
          <p:sp>
            <p:nvSpPr>
              <p:cNvPr id="147" name=""/>
              <p:cNvSpPr/>
              <p:nvPr/>
            </p:nvSpPr>
            <p:spPr>
              <a:xfrm>
                <a:off x="716040" y="4902120"/>
                <a:ext cx="7772400" cy="7617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792000" y="4901400"/>
                <a:ext cx="7361640" cy="838800"/>
                <a:chOff x="792000" y="4901400"/>
                <a:chExt cx="7361640" cy="8388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077920" y="4901400"/>
                  <a:ext cx="60757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water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energy </a:t>
                  </a: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glucose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oxygen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92000" y="4933440"/>
                  <a:ext cx="1340640" cy="80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carbon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dioxide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" name=""/>
            <p:cNvGrpSpPr/>
            <p:nvPr/>
          </p:nvGrpSpPr>
          <p:grpSpPr>
            <a:xfrm>
              <a:off x="716040" y="5664240"/>
              <a:ext cx="7772400" cy="914400"/>
              <a:chOff x="716040" y="5664240"/>
              <a:chExt cx="7772400" cy="914400"/>
            </a:xfrm>
          </p:grpSpPr>
          <p:sp>
            <p:nvSpPr>
              <p:cNvPr id="152" name=""/>
              <p:cNvSpPr/>
              <p:nvPr/>
            </p:nvSpPr>
            <p:spPr>
              <a:xfrm>
                <a:off x="716040" y="5664240"/>
                <a:ext cx="7772400" cy="91440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1034280" y="5848200"/>
                <a:ext cx="6743160" cy="727560"/>
                <a:chOff x="1034280" y="5848200"/>
                <a:chExt cx="6743160" cy="7275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034280" y="585720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C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426400" y="585720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H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317560" y="5874480"/>
                  <a:ext cx="1253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"/>
                    </a:rPr>
                    <a:t>H</a:t>
                  </a:r>
                  <a:r>
                    <a:rPr b="1" lang="en-US" sz="2400" spc="-1" strike="noStrike" baseline="-25000">
                      <a:solidFill>
                        <a:srgbClr val="cc0000"/>
                      </a:solidFill>
                      <a:latin typeface="Arial"/>
                    </a:rPr>
                    <a:t>12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4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048080" y="5857200"/>
                  <a:ext cx="7293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535560" y="5848200"/>
                  <a:ext cx="126720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light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energy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789800" y="5853960"/>
                  <a:ext cx="4899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3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039040" y="588456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584040" y="588456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34680" y="588456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3" name=""/>
          <p:cNvSpPr/>
          <p:nvPr/>
        </p:nvSpPr>
        <p:spPr>
          <a:xfrm>
            <a:off x="716760" y="4063320"/>
            <a:ext cx="22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Autotroph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4240" y="4444200"/>
            <a:ext cx="66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making energy &amp; organic molecules from light energ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400" y="1677240"/>
            <a:ext cx="78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ing energy &amp; organic molecules from ingesting organic molecul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869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702560" y="3933720"/>
            <a:ext cx="1441440" cy="1017720"/>
          </a:xfrm>
          <a:prstGeom prst="wedgeEllipseCallout">
            <a:avLst>
              <a:gd name="adj1" fmla="val -11453"/>
              <a:gd name="adj2" fmla="val 12051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ere’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ATP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92200" y="3508200"/>
            <a:ext cx="3413160" cy="468360"/>
          </a:xfrm>
          <a:custGeom>
            <a:avLst/>
            <a:gdLst/>
            <a:ahLst/>
            <a:rect l="l" t="t" r="r" b="b"/>
            <a:pathLst>
              <a:path w="2175" h="295">
                <a:moveTo>
                  <a:pt x="0" y="100"/>
                </a:moveTo>
                <a:lnTo>
                  <a:pt x="0" y="295"/>
                </a:lnTo>
                <a:lnTo>
                  <a:pt x="2175" y="295"/>
                </a:lnTo>
                <a:lnTo>
                  <a:pt x="2175" y="0"/>
                </a:lnTo>
              </a:path>
            </a:pathLst>
          </a:custGeom>
          <a:noFill/>
          <a:ln w="57240">
            <a:solidFill>
              <a:srgbClr val="66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31800" y="6222960"/>
            <a:ext cx="4310280" cy="420840"/>
          </a:xfrm>
          <a:custGeom>
            <a:avLst/>
            <a:gdLst/>
            <a:ahLst/>
            <a:rect l="l" t="t" r="r" b="b"/>
            <a:pathLst>
              <a:path w="2175" h="295">
                <a:moveTo>
                  <a:pt x="0" y="100"/>
                </a:moveTo>
                <a:lnTo>
                  <a:pt x="0" y="295"/>
                </a:lnTo>
                <a:lnTo>
                  <a:pt x="2175" y="295"/>
                </a:lnTo>
                <a:lnTo>
                  <a:pt x="2175" y="0"/>
                </a:lnTo>
              </a:path>
            </a:pathLst>
          </a:custGeom>
          <a:noFill/>
          <a:ln w="57240">
            <a:solidFill>
              <a:srgbClr val="00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26560" y="3794040"/>
            <a:ext cx="1239840" cy="31428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9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rgoni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96280" y="6540480"/>
            <a:ext cx="1409040" cy="3142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9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ergoni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 flipH="1" flipV="1" rot="4294800">
            <a:off x="-27000" y="3018600"/>
            <a:ext cx="1014480" cy="387000"/>
          </a:xfrm>
          <a:custGeom>
            <a:avLst/>
            <a:gdLst/>
            <a:ahLst/>
            <a:rect l="l" t="t" r="r" b="b"/>
            <a:pathLst>
              <a:path w="639" h="244">
                <a:moveTo>
                  <a:pt x="0" y="192"/>
                </a:moveTo>
                <a:lnTo>
                  <a:pt x="192" y="244"/>
                </a:lnTo>
                <a:lnTo>
                  <a:pt x="192" y="96"/>
                </a:lnTo>
                <a:lnTo>
                  <a:pt x="336" y="134"/>
                </a:lnTo>
                <a:lnTo>
                  <a:pt x="336" y="0"/>
                </a:lnTo>
                <a:cubicBezTo>
                  <a:pt x="596" y="69"/>
                  <a:pt x="493" y="54"/>
                  <a:pt x="639" y="7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 rot="17462400">
            <a:off x="8062200" y="3019320"/>
            <a:ext cx="1014120" cy="387360"/>
          </a:xfrm>
          <a:custGeom>
            <a:avLst/>
            <a:gdLst/>
            <a:ahLst/>
            <a:rect l="l" t="t" r="r" b="b"/>
            <a:pathLst>
              <a:path w="639" h="244">
                <a:moveTo>
                  <a:pt x="0" y="192"/>
                </a:moveTo>
                <a:lnTo>
                  <a:pt x="192" y="244"/>
                </a:lnTo>
                <a:lnTo>
                  <a:pt x="192" y="96"/>
                </a:lnTo>
                <a:lnTo>
                  <a:pt x="336" y="134"/>
                </a:lnTo>
                <a:lnTo>
                  <a:pt x="336" y="0"/>
                </a:lnTo>
                <a:cubicBezTo>
                  <a:pt x="596" y="69"/>
                  <a:pt x="493" y="54"/>
                  <a:pt x="639" y="7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397160" y="3025800"/>
            <a:ext cx="1423800" cy="1417680"/>
            <a:chOff x="1397160" y="3025800"/>
            <a:chExt cx="1423800" cy="141768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1397160" y="3025800"/>
              <a:ext cx="142380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706400" y="3604680"/>
              <a:ext cx="7840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6320" y="2193120"/>
            <a:ext cx="3018240" cy="5508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4720" y="4876200"/>
            <a:ext cx="37774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881680" y="228600"/>
            <a:ext cx="1709640" cy="1709640"/>
            <a:chOff x="5881680" y="228600"/>
            <a:chExt cx="1709640" cy="1709640"/>
          </a:xfrm>
        </p:grpSpPr>
        <p:sp>
          <p:nvSpPr>
            <p:cNvPr id="181" name=""/>
            <p:cNvSpPr/>
            <p:nvPr/>
          </p:nvSpPr>
          <p:spPr>
            <a:xfrm>
              <a:off x="5881680" y="228600"/>
              <a:ext cx="1709640" cy="1709640"/>
            </a:xfrm>
            <a:prstGeom prst="sun">
              <a:avLst>
                <a:gd name="adj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51840" y="799920"/>
              <a:ext cx="770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sun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 flipH="1">
            <a:off x="5105520" y="1371600"/>
            <a:ext cx="1295280" cy="838080"/>
          </a:xfrm>
          <a:custGeom>
            <a:avLst/>
            <a:gdLst>
              <a:gd name="textAreaLeft" fmla="*/ 360 w 1295280"/>
              <a:gd name="textAreaRight" fmla="*/ 1296000 w 1295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3865" y="10800"/>
                </a:moveTo>
                <a:arcTo wR="-6935" hR="-6935" stAng="-10800000" swAng="-5669545"/>
                <a:lnTo>
                  <a:pt x="9954" y="33"/>
                </a:lnTo>
                <a:arcTo wR="10800" hR="10800" stAng="-5669545" swAng="5669545"/>
                <a:lnTo>
                  <a:pt x="24300" y="10800"/>
                </a:lnTo>
                <a:lnTo>
                  <a:pt x="19668" y="15433"/>
                </a:lnTo>
                <a:lnTo>
                  <a:pt x="15035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 rot="5400000">
            <a:off x="4133880" y="5113440"/>
            <a:ext cx="1295280" cy="838080"/>
          </a:xfrm>
          <a:custGeom>
            <a:avLst/>
            <a:gdLst>
              <a:gd name="textAreaLeft" fmla="*/ 0 w 1295280"/>
              <a:gd name="textAreaRight" fmla="*/ 1295640 w 1295280"/>
              <a:gd name="textAreaTop" fmla="*/ 360 h 838080"/>
              <a:gd name="textAreaBottom" fmla="*/ 838800 h 838080"/>
            </a:gdLst>
            <a:ahLst/>
            <a:rect l="textAreaLeft" t="textAreaTop" r="textAreaRight" b="textAreaBottom"/>
            <a:pathLst>
              <a:path w="21600" h="21600">
                <a:moveTo>
                  <a:pt x="3865" y="10800"/>
                </a:moveTo>
                <a:arcTo wR="-6935" hR="-6935" stAng="-10800000" swAng="-5669545"/>
                <a:lnTo>
                  <a:pt x="9954" y="33"/>
                </a:lnTo>
                <a:arcTo wR="10800" hR="10800" stAng="-5669545" swAng="5669545"/>
                <a:lnTo>
                  <a:pt x="24300" y="10800"/>
                </a:lnTo>
                <a:lnTo>
                  <a:pt x="19668" y="15433"/>
                </a:lnTo>
                <a:lnTo>
                  <a:pt x="15035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 rot="5400000">
            <a:off x="1675080" y="2513880"/>
            <a:ext cx="1295640" cy="1600200"/>
          </a:xfrm>
          <a:custGeom>
            <a:avLst/>
            <a:gdLst>
              <a:gd name="textAreaLeft" fmla="*/ -360 w 1295640"/>
              <a:gd name="textAreaRight" fmla="*/ 1295640 w 1295640"/>
              <a:gd name="textAreaTop" fmla="*/ -360 h 1600200"/>
              <a:gd name="textAreaBottom" fmla="*/ 1600200 h 1600200"/>
            </a:gdLst>
            <a:ahLst/>
            <a:rect l="textAreaLeft" t="textAreaTop" r="textAreaRight" b="textAreaBottom"/>
            <a:pathLst>
              <a:path w="21600" h="21600">
                <a:moveTo>
                  <a:pt x="2542" y="10801"/>
                </a:moveTo>
                <a:arcTo wR="-8258" hR="-8258" stAng="10799583" swAng="-5383033"/>
                <a:lnTo>
                  <a:pt x="10852" y="0"/>
                </a:lnTo>
                <a:arcTo wR="10800" hR="10800" stAng="-5383450" swAng="5383033"/>
                <a:lnTo>
                  <a:pt x="24300" y="10798"/>
                </a:lnTo>
                <a:lnTo>
                  <a:pt x="20329" y="14770"/>
                </a:lnTo>
                <a:lnTo>
                  <a:pt x="16358" y="10799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 rot="10800000">
            <a:off x="6323400" y="2513520"/>
            <a:ext cx="1295640" cy="1600200"/>
          </a:xfrm>
          <a:custGeom>
            <a:avLst/>
            <a:gdLst>
              <a:gd name="textAreaLeft" fmla="*/ -360 w 1295640"/>
              <a:gd name="textAreaRight" fmla="*/ 1295640 w 1295640"/>
              <a:gd name="textAreaTop" fmla="*/ -360 h 1600200"/>
              <a:gd name="textAreaBottom" fmla="*/ 1600200 h 1600200"/>
            </a:gdLst>
            <a:ahLst/>
            <a:rect l="textAreaLeft" t="textAreaTop" r="textAreaRight" b="textAreaBottom"/>
            <a:pathLst>
              <a:path w="21600" h="21600">
                <a:moveTo>
                  <a:pt x="2542" y="10801"/>
                </a:moveTo>
                <a:arcTo wR="-8258" hR="-8258" stAng="10799583" swAng="-5383033"/>
                <a:lnTo>
                  <a:pt x="10852" y="0"/>
                </a:lnTo>
                <a:arcTo wR="10800" hR="10800" stAng="-5383450" swAng="5383033"/>
                <a:lnTo>
                  <a:pt x="24300" y="10798"/>
                </a:lnTo>
                <a:lnTo>
                  <a:pt x="20329" y="14770"/>
                </a:lnTo>
                <a:lnTo>
                  <a:pt x="16358" y="10799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 rot="16200000">
            <a:off x="6171480" y="3733560"/>
            <a:ext cx="1295280" cy="1600200"/>
          </a:xfrm>
          <a:custGeom>
            <a:avLst/>
            <a:gdLst>
              <a:gd name="textAreaLeft" fmla="*/ 360 w 1295280"/>
              <a:gd name="textAreaRight" fmla="*/ 1296000 w 1295280"/>
              <a:gd name="textAreaTop" fmla="*/ -360 h 1600200"/>
              <a:gd name="textAreaBottom" fmla="*/ 1600200 h 1600200"/>
            </a:gdLst>
            <a:ahLst/>
            <a:rect l="textAreaLeft" t="textAreaTop" r="textAreaRight" b="textAreaBottom"/>
            <a:pathLst>
              <a:path w="21600" h="21600">
                <a:moveTo>
                  <a:pt x="2542" y="10801"/>
                </a:moveTo>
                <a:arcTo wR="-8258" hR="-8258" stAng="10799583" swAng="-5383033"/>
                <a:lnTo>
                  <a:pt x="10852" y="0"/>
                </a:lnTo>
                <a:arcTo wR="10800" hR="10800" stAng="-5383450" swAng="5383033"/>
                <a:lnTo>
                  <a:pt x="24300" y="10798"/>
                </a:lnTo>
                <a:lnTo>
                  <a:pt x="20329" y="14770"/>
                </a:lnTo>
                <a:lnTo>
                  <a:pt x="16358" y="10799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1523160" y="3656880"/>
            <a:ext cx="1295640" cy="1600200"/>
          </a:xfrm>
          <a:custGeom>
            <a:avLst/>
            <a:gdLst>
              <a:gd name="textAreaLeft" fmla="*/ -360 w 1295640"/>
              <a:gd name="textAreaRight" fmla="*/ 1295640 w 1295640"/>
              <a:gd name="textAreaTop" fmla="*/ -360 h 1600200"/>
              <a:gd name="textAreaBottom" fmla="*/ 1600200 h 1600200"/>
            </a:gdLst>
            <a:ahLst/>
            <a:rect l="textAreaLeft" t="textAreaTop" r="textAreaRight" b="textAreaBottom"/>
            <a:pathLst>
              <a:path w="21600" h="21600">
                <a:moveTo>
                  <a:pt x="2542" y="10801"/>
                </a:moveTo>
                <a:arcTo wR="-8258" hR="-8258" stAng="10799583" swAng="-5383033"/>
                <a:lnTo>
                  <a:pt x="10852" y="0"/>
                </a:lnTo>
                <a:arcTo wR="10800" hR="10800" stAng="-5383450" swAng="5383033"/>
                <a:lnTo>
                  <a:pt x="24300" y="10798"/>
                </a:lnTo>
                <a:lnTo>
                  <a:pt x="20329" y="14770"/>
                </a:lnTo>
                <a:lnTo>
                  <a:pt x="16358" y="10799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258960" y="3476520"/>
            <a:ext cx="1433520" cy="763560"/>
            <a:chOff x="6258960" y="3476520"/>
            <a:chExt cx="1433520" cy="763560"/>
          </a:xfrm>
        </p:grpSpPr>
        <p:sp>
          <p:nvSpPr>
            <p:cNvPr id="190" name=""/>
            <p:cNvSpPr/>
            <p:nvPr/>
          </p:nvSpPr>
          <p:spPr>
            <a:xfrm>
              <a:off x="6531120" y="3476520"/>
              <a:ext cx="882720" cy="763560"/>
            </a:xfrm>
            <a:prstGeom prst="hexagon">
              <a:avLst>
                <a:gd name="adj" fmla="val 28901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ffa5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58960" y="3614040"/>
              <a:ext cx="1433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7797960" y="3474360"/>
            <a:ext cx="770040" cy="770040"/>
          </a:xfrm>
          <a:prstGeom prst="ellipse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5760" y="3464640"/>
            <a:ext cx="1108800" cy="770040"/>
          </a:xfrm>
          <a:prstGeom prst="ellipse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23360" y="269316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lan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83720" y="447912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nima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plan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3720" y="5551560"/>
            <a:ext cx="1817640" cy="119052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H="1">
            <a:off x="1379520" y="5721480"/>
            <a:ext cx="2433600" cy="1017360"/>
          </a:xfrm>
          <a:prstGeom prst="wedgeEllipseCallout">
            <a:avLst>
              <a:gd name="adj1" fmla="val 64870"/>
              <a:gd name="adj2" fmla="val -3018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he Great Circl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of Life,Mufas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7529400" y="4930920"/>
            <a:ext cx="1017720" cy="1417320"/>
            <a:chOff x="7529400" y="4930920"/>
            <a:chExt cx="1017720" cy="141732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rcRect l="14334" t="0" r="14334" b="0"/>
            <a:stretch/>
          </p:blipFill>
          <p:spPr>
            <a:xfrm>
              <a:off x="7529400" y="4930920"/>
              <a:ext cx="1017720" cy="14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845480" y="5240880"/>
              <a:ext cx="381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96320" y="5621760"/>
              <a:ext cx="366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78800" y="5566320"/>
              <a:ext cx="381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09120" y="5740920"/>
              <a:ext cx="459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8274240" y="4025880"/>
            <a:ext cx="814320" cy="1417680"/>
            <a:chOff x="8274240" y="4025880"/>
            <a:chExt cx="814320" cy="1417680"/>
          </a:xfrm>
        </p:grpSpPr>
        <p:pic>
          <p:nvPicPr>
            <p:cNvPr id="206" name="" descr=""/>
            <p:cNvPicPr/>
            <p:nvPr/>
          </p:nvPicPr>
          <p:blipFill>
            <a:blip r:embed="rId2"/>
            <a:srcRect l="21501" t="0" r="21501" b="0"/>
            <a:stretch/>
          </p:blipFill>
          <p:spPr>
            <a:xfrm>
              <a:off x="8274240" y="4025880"/>
              <a:ext cx="81432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8278920" y="4604760"/>
              <a:ext cx="7840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661080" y="4384800"/>
            <a:ext cx="1280880" cy="1158480"/>
            <a:chOff x="6661080" y="4384800"/>
            <a:chExt cx="1280880" cy="1158480"/>
          </a:xfrm>
        </p:grpSpPr>
        <p:sp>
          <p:nvSpPr>
            <p:cNvPr id="209" name=""/>
            <p:cNvSpPr/>
            <p:nvPr/>
          </p:nvSpPr>
          <p:spPr>
            <a:xfrm>
              <a:off x="6721920" y="4384800"/>
              <a:ext cx="1220040" cy="85392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61080" y="5116680"/>
              <a:ext cx="365760" cy="36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71600" y="5177520"/>
              <a:ext cx="365760" cy="36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14600" y="1600200"/>
            <a:ext cx="1447920" cy="1012680"/>
          </a:xfrm>
          <a:custGeom>
            <a:avLst/>
            <a:gdLst>
              <a:gd name="textAreaLeft" fmla="*/ 330480 w 1447920"/>
              <a:gd name="textAreaRight" fmla="*/ 1117440 w 1447920"/>
              <a:gd name="textAreaTop" fmla="*/ 231120 h 1012680"/>
              <a:gd name="textAreaBottom" fmla="*/ 781560 h 101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does it mean to be a 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pla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321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ed to…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llect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ight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energ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nsform it into chemical energy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or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ight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energ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 a stable form to be moved around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plant &amp; also saved for a rainy day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ed to get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building block atom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rom the environment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,H,O,N,P,K,S,Mg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 all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organic molecule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eded for growt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rbohydrates, proteins, lipids, nucleic aci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23000" y="1900080"/>
            <a:ext cx="1817640" cy="11908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560720" y="3166920"/>
            <a:ext cx="1433520" cy="763560"/>
            <a:chOff x="7560720" y="3166920"/>
            <a:chExt cx="1433520" cy="763560"/>
          </a:xfrm>
        </p:grpSpPr>
        <p:sp>
          <p:nvSpPr>
            <p:cNvPr id="217" name=""/>
            <p:cNvSpPr/>
            <p:nvPr/>
          </p:nvSpPr>
          <p:spPr>
            <a:xfrm>
              <a:off x="7832880" y="3166920"/>
              <a:ext cx="882720" cy="763560"/>
            </a:xfrm>
            <a:prstGeom prst="hexagon">
              <a:avLst>
                <a:gd name="adj" fmla="val 28901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ffa5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60720" y="3304440"/>
              <a:ext cx="1433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914880" y="452124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rcRect l="0" t="0" r="2000" b="3871"/>
          <a:stretch/>
        </p:blipFill>
        <p:spPr>
          <a:xfrm>
            <a:off x="4951440" y="457200"/>
            <a:ext cx="4192560" cy="63738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lant structur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btaining raw material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sunligh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800"/>
                </a:solidFill>
                <a:uFillTx/>
                <a:latin typeface="Arial"/>
              </a:rPr>
              <a:t>leave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solar collector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tomate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gas exchang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ptake from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roo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nutrien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, P, K, S, Mg, Fe…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ptake from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roo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0" r="0" b="11384"/>
          <a:stretch/>
        </p:blipFill>
        <p:spPr>
          <a:xfrm>
            <a:off x="4267080" y="3747960"/>
            <a:ext cx="4775400" cy="3060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rcRect l="0" t="2824" r="6172" b="7059"/>
          <a:stretch/>
        </p:blipFill>
        <p:spPr>
          <a:xfrm>
            <a:off x="4267080" y="409680"/>
            <a:ext cx="4800600" cy="3362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33520" y="3962520"/>
            <a:ext cx="3555720" cy="2830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rcRect l="0" t="0" r="4114" b="0"/>
          <a:stretch/>
        </p:blipFill>
        <p:spPr>
          <a:xfrm>
            <a:off x="152280" y="380880"/>
            <a:ext cx="4262400" cy="3556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468800" y="3994200"/>
            <a:ext cx="1640880" cy="457200"/>
          </a:xfrm>
          <a:prstGeom prst="rect">
            <a:avLst/>
          </a:prstGeom>
          <a:solidFill>
            <a:srgbClr val="0068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tomat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40760" y="6327720"/>
            <a:ext cx="2507760" cy="457200"/>
          </a:xfrm>
          <a:prstGeom prst="rect">
            <a:avLst/>
          </a:prstGeom>
          <a:solidFill>
            <a:srgbClr val="0068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ranspir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4:19:13Z</dcterms:created>
  <dc:creator>Kim Foglia</dc:creator>
  <dc:description>All Rights Reserved. Copyright 2003. WD Interactive.</dc:description>
  <cp:keywords>Education Biology Zone Kim Foglia</cp:keywords>
  <dc:language>en-US</dc:language>
  <cp:lastModifiedBy>Kimberly Area School District</cp:lastModifiedBy>
  <cp:lastPrinted>2005-12-21T19:43:20Z</cp:lastPrinted>
  <dcterms:modified xsi:type="dcterms:W3CDTF">2008-02-27T20:56:29Z</dcterms:modified>
  <cp:revision>112</cp:revision>
  <dc:subject>AP &amp; Regents Biology</dc:subject>
  <dc:title>PowerPoint Presentation</dc:title>
</cp:coreProperties>
</file>